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828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4444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75212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14828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54444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752120" y="76320"/>
            <a:ext cx="7086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67000" y="4343400"/>
            <a:ext cx="1371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2560" y="6588000"/>
            <a:ext cx="245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69696"/>
                </a:solidFill>
                <a:latin typeface="Arial"/>
              </a:rPr>
              <a:t>Copyright 2008 The McGraw-Hill Compan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60480" y="6553080"/>
            <a:ext cx="63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1-</a:t>
            </a:r>
            <a:fld id="{38E8DA12-711F-4336-89CE-82F9523867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14800" y="1371600"/>
            <a:ext cx="5029200" cy="5486400"/>
            <a:chOff x="4114800" y="1371600"/>
            <a:chExt cx="5029200" cy="5486400"/>
          </a:xfrm>
        </p:grpSpPr>
        <p:sp>
          <p:nvSpPr>
            <p:cNvPr id="7" name=""/>
            <p:cNvSpPr/>
            <p:nvPr/>
          </p:nvSpPr>
          <p:spPr>
            <a:xfrm>
              <a:off x="4267080" y="6629400"/>
              <a:ext cx="487692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5400" y="1523880"/>
              <a:ext cx="0" cy="53341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14800" y="6705720"/>
              <a:ext cx="50292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91720" y="1371600"/>
              <a:ext cx="0" cy="548640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 txBox="1"/>
          <p:nvPr/>
        </p:nvSpPr>
        <p:spPr>
          <a:xfrm>
            <a:off x="1219320" y="685800"/>
            <a:ext cx="27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152280" y="74520"/>
            <a:ext cx="14479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Chap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" name=""/>
          <p:cNvSpPr/>
          <p:nvPr/>
        </p:nvSpPr>
        <p:spPr>
          <a:xfrm>
            <a:off x="76320" y="1343160"/>
            <a:ext cx="1566720" cy="38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ur Market Mod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ure Competi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fit Maximization in the Short-Ru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arginal Cost and Short-Run Supp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anges in Supp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fit Maximization in the Long Ru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pply Readjust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ure Competition and Effici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ong-Run Equilibr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ast Wo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24480" y="56530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Key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>
            <a:hlinkClick r:id="" action="ppaction://hlinkshowjump?jump=endshow"/>
          </p:cNvPr>
          <p:cNvSpPr/>
          <p:nvPr/>
        </p:nvSpPr>
        <p:spPr>
          <a:xfrm>
            <a:off x="28080" y="61117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52280" y="55627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52280" y="64771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52280" y="60199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>
            <a:hlinkClick r:id="" action="ppaction://hlinkshowjump?jump=endshow"/>
          </p:cNvPr>
          <p:cNvSpPr/>
          <p:nvPr/>
        </p:nvSpPr>
        <p:spPr>
          <a:xfrm>
            <a:off x="990720" y="60958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22373" y="10800"/>
                </a:moveTo>
                <a:lnTo>
                  <a:pt x="11868" y="17806"/>
                </a:lnTo>
                <a:lnTo>
                  <a:pt x="11868" y="3794"/>
                </a:lnTo>
                <a:close/>
              </a:path>
              <a:path fill="darken" w="37749" h="21600">
                <a:moveTo>
                  <a:pt x="24219" y="3794"/>
                </a:moveTo>
                <a:lnTo>
                  <a:pt x="24219" y="17806"/>
                </a:lnTo>
                <a:lnTo>
                  <a:pt x="25881" y="17806"/>
                </a:lnTo>
                <a:lnTo>
                  <a:pt x="2588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990720" y="56386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1/worked_problems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126632/student_view0/chapter21/worked_problems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1/worked_problems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126632/student_view0/chapter21/worked_problems.htm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1/origin_of_the_idea.htm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highered.mcgraw-hill.com/sites/0073126632/student_view0/chapter21/origin_of_the_idea.html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6.xml"/><Relationship Id="rId13" Type="http://schemas.openxmlformats.org/officeDocument/2006/relationships/slide" Target="slide22.xml"/><Relationship Id="rId14" Type="http://schemas.openxmlformats.org/officeDocument/2006/relationships/slide" Target="slide22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4.xml"/><Relationship Id="rId19" Type="http://schemas.openxmlformats.org/officeDocument/2006/relationships/slide" Target="slide24.xml"/><Relationship Id="rId20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1/worked_problems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126632/student_view0/chapter21/worked_problems.html" TargetMode="External"/><Relationship Id="rId4" Type="http://schemas.openxmlformats.org/officeDocument/2006/relationships/hyperlink" Target="http://highered.mcgraw-hill.com/sites/0073126632/student_view0/chapter21/interactive_graphs.html" TargetMode="External"/><Relationship Id="rId5" Type="http://schemas.openxmlformats.org/officeDocument/2006/relationships/hyperlink" Target="http://highered.mcgraw-hill.com/sites/0073126632/student_view0/chapter21/interactive_graphs.html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03680" y="304920"/>
            <a:ext cx="2161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660033"/>
                </a:solidFill>
                <a:latin typeface="Times New Roman"/>
              </a:rPr>
              <a:t>21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98760" y="3668760"/>
            <a:ext cx="5807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4572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232" r="1595" b="0"/>
          <a:stretch/>
        </p:blipFill>
        <p:spPr>
          <a:xfrm>
            <a:off x="4616280" y="743040"/>
            <a:ext cx="402300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785600" y="979560"/>
            <a:ext cx="708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Marginal Revenue-Marginal Cost Approach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MR = MC Rule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71640" y="5551560"/>
            <a:ext cx="689148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52480" y="1817640"/>
            <a:ext cx="7097760" cy="11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697040" y="87120"/>
            <a:ext cx="73915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t Maximization in the Short Ru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80920" y="2160720"/>
            <a:ext cx="8816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Outp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62640" y="1979640"/>
            <a:ext cx="88344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13480" y="1979640"/>
            <a:ext cx="88344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69280" y="1979640"/>
            <a:ext cx="88344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96440" y="2160720"/>
            <a:ext cx="9212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17040" y="2341440"/>
            <a:ext cx="1052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t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Loss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40400" y="3030480"/>
            <a:ext cx="4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01800" y="3027240"/>
            <a:ext cx="100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15640" y="3035160"/>
            <a:ext cx="877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708080" y="3043080"/>
            <a:ext cx="100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3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.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3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7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914880" y="305100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960680" y="3059280"/>
            <a:ext cx="76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-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85800" y="6084720"/>
            <a:ext cx="60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 Surprise - Now Let’s Graph I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82680" y="6086520"/>
            <a:ext cx="6575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Do You See Profit Maximization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33800" y="2160720"/>
            <a:ext cx="913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1280" y="3040200"/>
            <a:ext cx="56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1838160" y="1936800"/>
            <a:ext cx="6727680" cy="4608360"/>
            <a:chOff x="1838160" y="1936800"/>
            <a:chExt cx="6727680" cy="4608360"/>
          </a:xfrm>
        </p:grpSpPr>
        <p:grpSp>
          <p:nvGrpSpPr>
            <p:cNvPr id="350" name=""/>
            <p:cNvGrpSpPr/>
            <p:nvPr/>
          </p:nvGrpSpPr>
          <p:grpSpPr>
            <a:xfrm>
              <a:off x="2720880" y="2092320"/>
              <a:ext cx="5844960" cy="3946680"/>
              <a:chOff x="2720880" y="2092320"/>
              <a:chExt cx="5844960" cy="394668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2720880" y="2098800"/>
                <a:ext cx="5844960" cy="3940200"/>
                <a:chOff x="2720880" y="2098800"/>
                <a:chExt cx="5844960" cy="39402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720880" y="2098800"/>
                  <a:ext cx="5834880" cy="39402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720880" y="5049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720880" y="4068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2720880" y="3079800"/>
                <a:ext cx="58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3262320" y="2092320"/>
                <a:ext cx="4849920" cy="3941280"/>
                <a:chOff x="3262320" y="2092320"/>
                <a:chExt cx="4849920" cy="3941280"/>
              </a:xfrm>
            </p:grpSpPr>
            <p:sp>
              <p:nvSpPr>
                <p:cNvPr id="357" name=""/>
                <p:cNvSpPr/>
                <p:nvPr/>
              </p:nvSpPr>
              <p:spPr>
                <a:xfrm flipV="1">
                  <a:off x="64915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59551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756936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70344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43380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38016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32623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54158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488088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81122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 rot="16200000">
              <a:off x="935280" y="3746160"/>
              <a:ext cx="21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 and Reve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2205360" y="1936800"/>
              <a:ext cx="577080" cy="4250520"/>
              <a:chOff x="2205360" y="1936800"/>
              <a:chExt cx="577080" cy="4250520"/>
            </a:xfrm>
          </p:grpSpPr>
          <p:sp>
            <p:nvSpPr>
              <p:cNvPr id="369" name=""/>
              <p:cNvSpPr/>
              <p:nvPr/>
            </p:nvSpPr>
            <p:spPr>
              <a:xfrm>
                <a:off x="2205360" y="19368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$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04000" y="2922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304000" y="39085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03000" y="4894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501640" y="5880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109680" y="6014880"/>
              <a:ext cx="5183640" cy="307080"/>
              <a:chOff x="3109680" y="6014880"/>
              <a:chExt cx="5183640" cy="307080"/>
            </a:xfrm>
          </p:grpSpPr>
          <p:sp>
            <p:nvSpPr>
              <p:cNvPr id="375" name=""/>
              <p:cNvSpPr/>
              <p:nvPr/>
            </p:nvSpPr>
            <p:spPr>
              <a:xfrm>
                <a:off x="31096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6622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19256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3364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750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165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680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878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4293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14600" y="60148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164920" y="617688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720880" y="3386160"/>
            <a:ext cx="4845240" cy="685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19920" y="340344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conomic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785600" y="979560"/>
            <a:ext cx="708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Marginal Revenue-Marginal Cost Approach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MR = MC Rule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1697040" y="87120"/>
            <a:ext cx="73915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t Maximization in the Short Ru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9720" y="3397320"/>
            <a:ext cx="565020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93560" y="3411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=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82960" y="3112920"/>
            <a:ext cx="5051520" cy="1744920"/>
          </a:xfrm>
          <a:custGeom>
            <a:avLst/>
            <a:gdLst/>
            <a:ahLst/>
            <a:rect l="l" t="t" r="r" b="b"/>
            <a:pathLst>
              <a:path w="3182" h="1099">
                <a:moveTo>
                  <a:pt x="0" y="672"/>
                </a:moveTo>
                <a:cubicBezTo>
                  <a:pt x="345" y="883"/>
                  <a:pt x="691" y="1095"/>
                  <a:pt x="1035" y="1097"/>
                </a:cubicBezTo>
                <a:cubicBezTo>
                  <a:pt x="1379" y="1099"/>
                  <a:pt x="1754" y="840"/>
                  <a:pt x="2064" y="686"/>
                </a:cubicBezTo>
                <a:cubicBezTo>
                  <a:pt x="2374" y="532"/>
                  <a:pt x="2708" y="286"/>
                  <a:pt x="2894" y="172"/>
                </a:cubicBezTo>
                <a:cubicBezTo>
                  <a:pt x="3080" y="58"/>
                  <a:pt x="3131" y="29"/>
                  <a:pt x="318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85520" y="2859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21480" y="3344760"/>
            <a:ext cx="109800" cy="109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713280" y="276372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= 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61200" y="3027240"/>
            <a:ext cx="293760" cy="336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11560" y="4092480"/>
            <a:ext cx="4811760" cy="598680"/>
          </a:xfrm>
          <a:custGeom>
            <a:avLst/>
            <a:gdLst/>
            <a:ahLst/>
            <a:rect l="l" t="t" r="r" b="b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898760" y="4078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54400" y="2263680"/>
            <a:ext cx="4746600" cy="2044800"/>
          </a:xfrm>
          <a:custGeom>
            <a:avLst/>
            <a:gdLst/>
            <a:ahLst/>
            <a:rect l="l" t="t" r="r" b="b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74000" y="3686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13320" y="27766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42760" y="44402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97.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743200" y="3005280"/>
            <a:ext cx="2714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2754360" y="4103640"/>
            <a:ext cx="29376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91520" y="5986440"/>
            <a:ext cx="358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139240" y="1387440"/>
            <a:ext cx="746280" cy="710280"/>
            <a:chOff x="8139240" y="1387440"/>
            <a:chExt cx="746280" cy="710280"/>
          </a:xfrm>
        </p:grpSpPr>
        <p:pic>
          <p:nvPicPr>
            <p:cNvPr id="407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28160" y="138744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>
              <a:hlinkClick r:id="rId3"/>
            </p:cNvPr>
            <p:cNvSpPr/>
            <p:nvPr/>
          </p:nvSpPr>
          <p:spPr>
            <a:xfrm>
              <a:off x="8139240" y="179064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 2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5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261600" y="2178000"/>
            <a:ext cx="468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wer the Price to $81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serve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838160" y="1936800"/>
            <a:ext cx="6727680" cy="4608360"/>
            <a:chOff x="1838160" y="1936800"/>
            <a:chExt cx="6727680" cy="4608360"/>
          </a:xfrm>
        </p:grpSpPr>
        <p:grpSp>
          <p:nvGrpSpPr>
            <p:cNvPr id="411" name=""/>
            <p:cNvGrpSpPr/>
            <p:nvPr/>
          </p:nvGrpSpPr>
          <p:grpSpPr>
            <a:xfrm>
              <a:off x="2720880" y="2092320"/>
              <a:ext cx="5844960" cy="3946680"/>
              <a:chOff x="2720880" y="2092320"/>
              <a:chExt cx="5844960" cy="39466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720880" y="2098800"/>
                <a:ext cx="5844960" cy="3940200"/>
                <a:chOff x="2720880" y="2098800"/>
                <a:chExt cx="5844960" cy="39402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720880" y="2098800"/>
                  <a:ext cx="5834880" cy="39402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720880" y="5049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720880" y="4068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"/>
              <p:cNvSpPr/>
              <p:nvPr/>
            </p:nvSpPr>
            <p:spPr>
              <a:xfrm>
                <a:off x="2720880" y="3079800"/>
                <a:ext cx="58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3262320" y="2092320"/>
                <a:ext cx="4849920" cy="3941280"/>
                <a:chOff x="3262320" y="2092320"/>
                <a:chExt cx="4849920" cy="3941280"/>
              </a:xfrm>
            </p:grpSpPr>
            <p:sp>
              <p:nvSpPr>
                <p:cNvPr id="418" name=""/>
                <p:cNvSpPr/>
                <p:nvPr/>
              </p:nvSpPr>
              <p:spPr>
                <a:xfrm flipV="1">
                  <a:off x="64915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59551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756936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70344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43380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38016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32623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4158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488088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81122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rot="16200000">
              <a:off x="935280" y="3746160"/>
              <a:ext cx="21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 and Reve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205360" y="1936800"/>
              <a:ext cx="577080" cy="4250520"/>
              <a:chOff x="2205360" y="1936800"/>
              <a:chExt cx="577080" cy="4250520"/>
            </a:xfrm>
          </p:grpSpPr>
          <p:sp>
            <p:nvSpPr>
              <p:cNvPr id="430" name=""/>
              <p:cNvSpPr/>
              <p:nvPr/>
            </p:nvSpPr>
            <p:spPr>
              <a:xfrm>
                <a:off x="2205360" y="19368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$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304000" y="2922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304000" y="39085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03000" y="4894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501640" y="5880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3109680" y="6014880"/>
              <a:ext cx="5183640" cy="307080"/>
              <a:chOff x="3109680" y="6014880"/>
              <a:chExt cx="5183640" cy="307080"/>
            </a:xfrm>
          </p:grpSpPr>
          <p:sp>
            <p:nvSpPr>
              <p:cNvPr id="436" name=""/>
              <p:cNvSpPr/>
              <p:nvPr/>
            </p:nvSpPr>
            <p:spPr>
              <a:xfrm>
                <a:off x="31096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622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9256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3364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2750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165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4680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878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4293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914600" y="60148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164920" y="617688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720880" y="4087800"/>
            <a:ext cx="3233880" cy="185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99640" y="32259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785600" y="979560"/>
            <a:ext cx="708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Marginal Revenue-Marginal Cost Approach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MR = MC Rule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1697040" y="87120"/>
            <a:ext cx="73915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t Maximization in the Short Ru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09720" y="4275000"/>
            <a:ext cx="565020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93560" y="4255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=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05280" y="3036960"/>
            <a:ext cx="4898880" cy="1820880"/>
          </a:xfrm>
          <a:custGeom>
            <a:avLst/>
            <a:gdLst/>
            <a:ahLst/>
            <a:rect l="l" t="t" r="r" b="b"/>
            <a:pathLst>
              <a:path w="3182" h="1099">
                <a:moveTo>
                  <a:pt x="0" y="672"/>
                </a:moveTo>
                <a:cubicBezTo>
                  <a:pt x="345" y="883"/>
                  <a:pt x="691" y="1095"/>
                  <a:pt x="1035" y="1097"/>
                </a:cubicBezTo>
                <a:cubicBezTo>
                  <a:pt x="1379" y="1099"/>
                  <a:pt x="1754" y="840"/>
                  <a:pt x="2064" y="686"/>
                </a:cubicBezTo>
                <a:cubicBezTo>
                  <a:pt x="2374" y="532"/>
                  <a:pt x="2708" y="286"/>
                  <a:pt x="2894" y="172"/>
                </a:cubicBezTo>
                <a:cubicBezTo>
                  <a:pt x="3080" y="58"/>
                  <a:pt x="3131" y="29"/>
                  <a:pt x="318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85520" y="2859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987680" y="3944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54400" y="2085840"/>
            <a:ext cx="4746600" cy="2044800"/>
          </a:xfrm>
          <a:custGeom>
            <a:avLst/>
            <a:gdLst/>
            <a:ahLst/>
            <a:rect l="l" t="t" r="r" b="b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4000" y="3686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208400" y="1550880"/>
            <a:ext cx="3366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ss Minimizing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02680" y="4421160"/>
            <a:ext cx="7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665080" y="355140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91.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38520" y="3808440"/>
            <a:ext cx="293760" cy="27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2743200" y="4332240"/>
            <a:ext cx="239760" cy="23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910120" y="422604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780160" y="5986440"/>
            <a:ext cx="358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711160" y="468144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97000" y="4792680"/>
            <a:ext cx="8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$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2754000" y="4713120"/>
            <a:ext cx="304920" cy="23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907240" y="401148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441320" y="3637080"/>
            <a:ext cx="349560" cy="565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211560" y="4092480"/>
            <a:ext cx="4811760" cy="598680"/>
          </a:xfrm>
          <a:custGeom>
            <a:avLst/>
            <a:gdLst/>
            <a:ahLst/>
            <a:rect l="l" t="t" r="r" b="b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915160" y="4597560"/>
            <a:ext cx="109440" cy="109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0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0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1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274200" y="2122560"/>
            <a:ext cx="51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wer the Price Further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$71 and Observe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838160" y="1936800"/>
            <a:ext cx="6727680" cy="4608360"/>
            <a:chOff x="1838160" y="1936800"/>
            <a:chExt cx="6727680" cy="4608360"/>
          </a:xfrm>
        </p:grpSpPr>
        <p:grpSp>
          <p:nvGrpSpPr>
            <p:cNvPr id="474" name=""/>
            <p:cNvGrpSpPr/>
            <p:nvPr/>
          </p:nvGrpSpPr>
          <p:grpSpPr>
            <a:xfrm>
              <a:off x="2720880" y="2092320"/>
              <a:ext cx="5844960" cy="3946680"/>
              <a:chOff x="2720880" y="2092320"/>
              <a:chExt cx="5844960" cy="394668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2720880" y="2098800"/>
                <a:ext cx="5844960" cy="3940200"/>
                <a:chOff x="2720880" y="2098800"/>
                <a:chExt cx="5844960" cy="39402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720880" y="2098800"/>
                  <a:ext cx="5834880" cy="39402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20880" y="5049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720880" y="4068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2720880" y="3079800"/>
                <a:ext cx="58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3262320" y="2092320"/>
                <a:ext cx="4849920" cy="3941280"/>
                <a:chOff x="3262320" y="2092320"/>
                <a:chExt cx="4849920" cy="3941280"/>
              </a:xfrm>
            </p:grpSpPr>
            <p:sp>
              <p:nvSpPr>
                <p:cNvPr id="481" name=""/>
                <p:cNvSpPr/>
                <p:nvPr/>
              </p:nvSpPr>
              <p:spPr>
                <a:xfrm flipV="1">
                  <a:off x="64915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59551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756936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70344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43380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38016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32623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54158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488088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81122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1" name=""/>
            <p:cNvSpPr/>
            <p:nvPr/>
          </p:nvSpPr>
          <p:spPr>
            <a:xfrm rot="16200000">
              <a:off x="935280" y="3746160"/>
              <a:ext cx="21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 and Reve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2205360" y="1936800"/>
              <a:ext cx="577080" cy="4250520"/>
              <a:chOff x="2205360" y="1936800"/>
              <a:chExt cx="577080" cy="4250520"/>
            </a:xfrm>
          </p:grpSpPr>
          <p:sp>
            <p:nvSpPr>
              <p:cNvPr id="493" name=""/>
              <p:cNvSpPr/>
              <p:nvPr/>
            </p:nvSpPr>
            <p:spPr>
              <a:xfrm>
                <a:off x="2205360" y="19368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$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304000" y="2922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304000" y="39085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03000" y="4894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501640" y="5880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109680" y="6014880"/>
              <a:ext cx="5183640" cy="307080"/>
              <a:chOff x="3109680" y="6014880"/>
              <a:chExt cx="5183640" cy="307080"/>
            </a:xfrm>
          </p:grpSpPr>
          <p:sp>
            <p:nvSpPr>
              <p:cNvPr id="499" name=""/>
              <p:cNvSpPr/>
              <p:nvPr/>
            </p:nvSpPr>
            <p:spPr>
              <a:xfrm>
                <a:off x="31096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6622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9256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73364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2750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8165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4680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878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4293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914600" y="60148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5164920" y="617688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5600" y="979560"/>
            <a:ext cx="708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Marginal Revenue-Marginal Cost Approach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MR = MC Rule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1697040" y="87120"/>
            <a:ext cx="73915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t Maximization in the Short Ru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709720" y="4753080"/>
            <a:ext cx="565020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671240" y="4444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=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38400" y="3081240"/>
            <a:ext cx="4899240" cy="1820880"/>
          </a:xfrm>
          <a:custGeom>
            <a:avLst/>
            <a:gdLst/>
            <a:ahLst/>
            <a:rect l="l" t="t" r="r" b="b"/>
            <a:pathLst>
              <a:path w="3182" h="1099">
                <a:moveTo>
                  <a:pt x="0" y="672"/>
                </a:moveTo>
                <a:cubicBezTo>
                  <a:pt x="345" y="883"/>
                  <a:pt x="691" y="1095"/>
                  <a:pt x="1035" y="1097"/>
                </a:cubicBezTo>
                <a:cubicBezTo>
                  <a:pt x="1379" y="1099"/>
                  <a:pt x="1754" y="840"/>
                  <a:pt x="2064" y="686"/>
                </a:cubicBezTo>
                <a:cubicBezTo>
                  <a:pt x="2374" y="532"/>
                  <a:pt x="2708" y="286"/>
                  <a:pt x="2894" y="172"/>
                </a:cubicBezTo>
                <a:cubicBezTo>
                  <a:pt x="3080" y="58"/>
                  <a:pt x="3131" y="29"/>
                  <a:pt x="318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985520" y="2859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987680" y="3944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54400" y="2085840"/>
            <a:ext cx="4746600" cy="2044800"/>
          </a:xfrm>
          <a:custGeom>
            <a:avLst/>
            <a:gdLst/>
            <a:ahLst/>
            <a:rect l="l" t="t" r="r" b="b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974000" y="3497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31720" y="1573200"/>
            <a:ext cx="415836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hort-Run Shut Down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02760" y="4776840"/>
            <a:ext cx="7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2743200" y="4809960"/>
            <a:ext cx="316080" cy="98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35480" y="5986440"/>
            <a:ext cx="3589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21200" y="4911840"/>
            <a:ext cx="1920960" cy="920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rt-R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ut Dow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&lt; Minimum 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1 &lt; $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711520" y="4659480"/>
            <a:ext cx="269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997000" y="3726000"/>
            <a:ext cx="8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$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754360" y="3971880"/>
            <a:ext cx="358560" cy="652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11560" y="4070520"/>
            <a:ext cx="4811760" cy="598320"/>
          </a:xfrm>
          <a:custGeom>
            <a:avLst/>
            <a:gdLst/>
            <a:ahLst/>
            <a:rect l="l" t="t" r="r" b="b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5420880" y="4669920"/>
            <a:ext cx="500040" cy="55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000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3000"/>
                            </p:stCondLst>
                            <p:childTnLst>
                              <p:par>
                                <p:cTn id="8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500"/>
                            </p:stCondLst>
                            <p:childTnLst>
                              <p:par>
                                <p:cTn id="8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35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851120" y="2529000"/>
            <a:ext cx="6889680" cy="78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74600" y="87120"/>
            <a:ext cx="67611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ginal Cost and Short-Run Suppl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52120" y="114624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Continuing the Same Numeric Example…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97200" y="1974960"/>
            <a:ext cx="67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ly Schedule of a Competitive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116800" y="28684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36000" y="250344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78200" y="2503440"/>
            <a:ext cx="30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 Profit 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Minimum Loss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149200" y="3279600"/>
            <a:ext cx="857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110840" y="3279600"/>
            <a:ext cx="51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608520" y="3279600"/>
            <a:ext cx="103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+4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7920" y="5937120"/>
            <a:ext cx="6926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The Schedule Shows the Quantity a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Will Produce at a Variety of Price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35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5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4600" y="87120"/>
            <a:ext cx="67611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ginal Cost and Short-Run Suppl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752120" y="1168200"/>
            <a:ext cx="7086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Generalizing the MR=MC Relationship and its Us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81040" y="483552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43040" y="6054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905120" y="2266920"/>
            <a:ext cx="6702120" cy="4363920"/>
            <a:chOff x="1905120" y="2266920"/>
            <a:chExt cx="6702120" cy="4363920"/>
          </a:xfrm>
        </p:grpSpPr>
        <p:grpSp>
          <p:nvGrpSpPr>
            <p:cNvPr id="545" name=""/>
            <p:cNvGrpSpPr/>
            <p:nvPr/>
          </p:nvGrpSpPr>
          <p:grpSpPr>
            <a:xfrm>
              <a:off x="2762280" y="2266920"/>
              <a:ext cx="5844960" cy="3782520"/>
              <a:chOff x="2762280" y="2266920"/>
              <a:chExt cx="5844960" cy="378252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2762280" y="2273040"/>
                <a:ext cx="5844960" cy="3776400"/>
                <a:chOff x="2762280" y="2273040"/>
                <a:chExt cx="5844960" cy="37764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762280" y="2273040"/>
                  <a:ext cx="5834880" cy="37764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762280" y="510120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62280" y="416088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"/>
              <p:cNvSpPr/>
              <p:nvPr/>
            </p:nvSpPr>
            <p:spPr>
              <a:xfrm>
                <a:off x="2762280" y="3213360"/>
                <a:ext cx="58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3303720" y="2266920"/>
                <a:ext cx="4849920" cy="3777840"/>
                <a:chOff x="3303720" y="2266920"/>
                <a:chExt cx="4849920" cy="3777840"/>
              </a:xfrm>
            </p:grpSpPr>
            <p:sp>
              <p:nvSpPr>
                <p:cNvPr id="552" name=""/>
                <p:cNvSpPr/>
                <p:nvPr/>
              </p:nvSpPr>
              <p:spPr>
                <a:xfrm flipV="1">
                  <a:off x="65329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V="1">
                  <a:off x="59965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761076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V="1">
                  <a:off x="70758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43794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V="1">
                  <a:off x="38430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V="1">
                  <a:off x="33037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V="1">
                  <a:off x="545724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V="1">
                  <a:off x="492228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V="1">
                  <a:off x="815364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2" name=""/>
            <p:cNvSpPr/>
            <p:nvPr/>
          </p:nvSpPr>
          <p:spPr>
            <a:xfrm rot="16200000">
              <a:off x="604800" y="3950640"/>
              <a:ext cx="293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 and Revenues (Dolla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38520" y="6262560"/>
              <a:ext cx="214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y Suppl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751120" y="498312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621240" y="2736720"/>
            <a:ext cx="4421160" cy="1435320"/>
          </a:xfrm>
          <a:custGeom>
            <a:avLst/>
            <a:gdLst/>
            <a:ahLst/>
            <a:rect l="l" t="t" r="r" b="b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076960" y="484488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377800" y="459900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47880" y="474660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074080" y="460836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85720" y="434016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755800" y="448776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082000" y="434988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393640" y="40258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63720" y="417348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089920" y="403560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401560" y="36226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771640" y="377028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097840" y="363204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729920" y="33195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706520" y="42181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690320" y="39038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43024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7160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44616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99876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16720" y="4754520"/>
            <a:ext cx="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68880" y="4503600"/>
            <a:ext cx="0" cy="15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54960" y="4111560"/>
            <a:ext cx="0" cy="192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84880" y="3741840"/>
            <a:ext cx="0" cy="22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785320" y="5442120"/>
            <a:ext cx="2690640" cy="507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Price is Below 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ill Not Be Pro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797200" y="5028840"/>
            <a:ext cx="403200" cy="42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86240"/>
            <a:ext cx="2539800" cy="712800"/>
          </a:xfrm>
          <a:custGeom>
            <a:avLst/>
            <a:gdLst/>
            <a:ahLst/>
            <a:rect l="l" t="t" r="r" b="b"/>
            <a:pathLst>
              <a:path w="1600" h="456">
                <a:moveTo>
                  <a:pt x="0" y="0"/>
                </a:moveTo>
                <a:cubicBezTo>
                  <a:pt x="174" y="117"/>
                  <a:pt x="349" y="235"/>
                  <a:pt x="491" y="307"/>
                </a:cubicBezTo>
                <a:cubicBezTo>
                  <a:pt x="633" y="378"/>
                  <a:pt x="744" y="413"/>
                  <a:pt x="853" y="432"/>
                </a:cubicBezTo>
                <a:cubicBezTo>
                  <a:pt x="962" y="451"/>
                  <a:pt x="1019" y="456"/>
                  <a:pt x="1143" y="424"/>
                </a:cubicBezTo>
                <a:cubicBezTo>
                  <a:pt x="1267" y="392"/>
                  <a:pt x="1505" y="279"/>
                  <a:pt x="1600" y="241"/>
                </a:cubicBezTo>
              </a:path>
            </a:pathLst>
          </a:custGeom>
          <a:noFill/>
          <a:ln w="57240">
            <a:solidFill>
              <a:srgbClr val="33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656320" y="3227400"/>
            <a:ext cx="2317680" cy="1511280"/>
          </a:xfrm>
          <a:custGeom>
            <a:avLst/>
            <a:gdLst/>
            <a:ahLst/>
            <a:rect l="l" t="t" r="r" b="b"/>
            <a:pathLst>
              <a:path w="1460" h="952">
                <a:moveTo>
                  <a:pt x="0" y="952"/>
                </a:moveTo>
                <a:cubicBezTo>
                  <a:pt x="79" y="905"/>
                  <a:pt x="229" y="827"/>
                  <a:pt x="472" y="668"/>
                </a:cubicBezTo>
                <a:cubicBezTo>
                  <a:pt x="715" y="509"/>
                  <a:pt x="1087" y="254"/>
                  <a:pt x="1460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106960" y="4923000"/>
            <a:ext cx="109440" cy="109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024600" y="4440240"/>
            <a:ext cx="10944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03840" y="407196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16400" y="4189320"/>
            <a:ext cx="4647960" cy="554040"/>
          </a:xfrm>
          <a:custGeom>
            <a:avLst/>
            <a:gdLst/>
            <a:ahLst/>
            <a:rect l="l" t="t" r="r" b="b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134120" y="371628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565600" y="469260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906800" y="4689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403600" y="4452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33880" y="4172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497640" y="3813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027560" y="3443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500"/>
                            </p:stCondLst>
                            <p:childTnLst>
                              <p:par>
                                <p:cTn id="9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5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9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000"/>
                            </p:stCondLst>
                            <p:childTnLst>
                              <p:par>
                                <p:cTn id="9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500"/>
                            </p:stCondLst>
                            <p:childTnLst>
                              <p:par>
                                <p:cTn id="9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indefinite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  <p:set>
                                      <p:cBhvr>
                                        <p:cTn id="978" dur="indefinite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2000"/>
                            </p:stCondLst>
                            <p:childTnLst>
                              <p:par>
                                <p:cTn id="9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indefinite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  <p:set>
                                      <p:cBhvr>
                                        <p:cTn id="1004" dur="indefinite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indefinite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  <p:set>
                                      <p:cBhvr>
                                        <p:cTn id="1030" dur="indefinite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indefinite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  <p:set>
                                      <p:cBhvr>
                                        <p:cTn id="1056" dur="indefinite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74600" y="87120"/>
            <a:ext cx="67611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ginal Cost and Short-Run Suppl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752120" y="1168200"/>
            <a:ext cx="7086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Generalizing the MR=MC Relationship and its Us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381040" y="483552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543040" y="6054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905120" y="2266920"/>
            <a:ext cx="6702120" cy="4363920"/>
            <a:chOff x="1905120" y="2266920"/>
            <a:chExt cx="6702120" cy="4363920"/>
          </a:xfrm>
        </p:grpSpPr>
        <p:grpSp>
          <p:nvGrpSpPr>
            <p:cNvPr id="610" name=""/>
            <p:cNvGrpSpPr/>
            <p:nvPr/>
          </p:nvGrpSpPr>
          <p:grpSpPr>
            <a:xfrm>
              <a:off x="2762280" y="2266920"/>
              <a:ext cx="5844960" cy="3782520"/>
              <a:chOff x="2762280" y="2266920"/>
              <a:chExt cx="5844960" cy="378252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2762280" y="2273040"/>
                <a:ext cx="5844960" cy="3776400"/>
                <a:chOff x="2762280" y="2273040"/>
                <a:chExt cx="5844960" cy="37764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2762280" y="2273040"/>
                  <a:ext cx="5834880" cy="37764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762280" y="510120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762280" y="416088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"/>
              <p:cNvSpPr/>
              <p:nvPr/>
            </p:nvSpPr>
            <p:spPr>
              <a:xfrm>
                <a:off x="2762280" y="3213360"/>
                <a:ext cx="58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3303720" y="2266920"/>
                <a:ext cx="4849920" cy="3777840"/>
                <a:chOff x="3303720" y="2266920"/>
                <a:chExt cx="4849920" cy="3777840"/>
              </a:xfrm>
            </p:grpSpPr>
            <p:sp>
              <p:nvSpPr>
                <p:cNvPr id="617" name=""/>
                <p:cNvSpPr/>
                <p:nvPr/>
              </p:nvSpPr>
              <p:spPr>
                <a:xfrm flipV="1">
                  <a:off x="65329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59965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761076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70758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43794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V="1">
                  <a:off x="38430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33037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V="1">
                  <a:off x="545724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V="1">
                  <a:off x="492228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V="1">
                  <a:off x="815364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7" name=""/>
            <p:cNvSpPr/>
            <p:nvPr/>
          </p:nvSpPr>
          <p:spPr>
            <a:xfrm rot="16200000">
              <a:off x="604800" y="3950640"/>
              <a:ext cx="293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 and Revenues (Dolla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38520" y="6262560"/>
              <a:ext cx="214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y Suppl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2751120" y="4983120"/>
            <a:ext cx="5345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621240" y="2736720"/>
            <a:ext cx="4421160" cy="1435320"/>
          </a:xfrm>
          <a:custGeom>
            <a:avLst/>
            <a:gdLst/>
            <a:ahLst/>
            <a:rect l="l" t="t" r="r" b="b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076960" y="484488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377800" y="459900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747880" y="4746600"/>
            <a:ext cx="5345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074080" y="460836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385720" y="434016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755800" y="4487760"/>
            <a:ext cx="5345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82000" y="434988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393640" y="40258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763720" y="4173480"/>
            <a:ext cx="5345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089920" y="403560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01560" y="36226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771640" y="377028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97840" y="363204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729920" y="33195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06520" y="42181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690320" y="39038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3024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87160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44616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99876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616720" y="4754520"/>
            <a:ext cx="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68880" y="4503600"/>
            <a:ext cx="0" cy="15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654960" y="4111560"/>
            <a:ext cx="0" cy="192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84880" y="3741840"/>
            <a:ext cx="0" cy="22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85320" y="5442120"/>
            <a:ext cx="2690640" cy="507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Price is Below 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ill Not Be Pro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2797200" y="5028840"/>
            <a:ext cx="403200" cy="42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098880" y="4386240"/>
            <a:ext cx="2539800" cy="712800"/>
          </a:xfrm>
          <a:custGeom>
            <a:avLst/>
            <a:gdLst/>
            <a:ahLst/>
            <a:rect l="l" t="t" r="r" b="b"/>
            <a:pathLst>
              <a:path w="1600" h="456">
                <a:moveTo>
                  <a:pt x="0" y="0"/>
                </a:moveTo>
                <a:cubicBezTo>
                  <a:pt x="174" y="117"/>
                  <a:pt x="349" y="235"/>
                  <a:pt x="491" y="307"/>
                </a:cubicBezTo>
                <a:cubicBezTo>
                  <a:pt x="633" y="378"/>
                  <a:pt x="744" y="413"/>
                  <a:pt x="853" y="432"/>
                </a:cubicBezTo>
                <a:cubicBezTo>
                  <a:pt x="962" y="451"/>
                  <a:pt x="1019" y="456"/>
                  <a:pt x="1143" y="424"/>
                </a:cubicBezTo>
                <a:cubicBezTo>
                  <a:pt x="1267" y="392"/>
                  <a:pt x="1505" y="279"/>
                  <a:pt x="1600" y="241"/>
                </a:cubicBezTo>
              </a:path>
            </a:pathLst>
          </a:custGeom>
          <a:noFill/>
          <a:ln w="57240">
            <a:solidFill>
              <a:srgbClr val="33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656320" y="3227400"/>
            <a:ext cx="2317680" cy="1511280"/>
          </a:xfrm>
          <a:custGeom>
            <a:avLst/>
            <a:gdLst/>
            <a:ahLst/>
            <a:rect l="l" t="t" r="r" b="b"/>
            <a:pathLst>
              <a:path w="1460" h="952">
                <a:moveTo>
                  <a:pt x="0" y="952"/>
                </a:moveTo>
                <a:cubicBezTo>
                  <a:pt x="79" y="905"/>
                  <a:pt x="229" y="827"/>
                  <a:pt x="472" y="668"/>
                </a:cubicBezTo>
                <a:cubicBezTo>
                  <a:pt x="715" y="509"/>
                  <a:pt x="1087" y="254"/>
                  <a:pt x="1460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06960" y="4923000"/>
            <a:ext cx="109440" cy="109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24600" y="4440240"/>
            <a:ext cx="10944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603840" y="407196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416400" y="4189320"/>
            <a:ext cx="4647960" cy="554040"/>
          </a:xfrm>
          <a:custGeom>
            <a:avLst/>
            <a:gdLst/>
            <a:ahLst/>
            <a:rect l="l" t="t" r="r" b="b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134120" y="371628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565600" y="469260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06800" y="4689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403600" y="4452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933880" y="4172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497640" y="3813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027560" y="3443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048560" y="2604960"/>
            <a:ext cx="3588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MC Above AVC Be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the Short-Run Supply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237360" y="3254400"/>
            <a:ext cx="117612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777440" y="289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36560" y="232416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mine the MC for the Competitive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30320" y="3263760"/>
            <a:ext cx="1976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eak-e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ormal Profit) Poi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748480" y="3679920"/>
            <a:ext cx="804600" cy="36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96320" y="5261040"/>
            <a:ext cx="1663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ut-Down Poi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f P is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5681160" y="4800240"/>
            <a:ext cx="631800" cy="42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indefinite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-78,-78,-78)"/>
                                      </p:to>
                                    </p:set>
                                    <p:set>
                                      <p:cBhvr>
                                        <p:cTn id="1102" dur="indefinite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indefinite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-78,-78,-78)"/>
                                      </p:to>
                                    </p:set>
                                    <p:set>
                                      <p:cBhvr>
                                        <p:cTn id="1105" dur="indefinite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indefinite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-78,-78,-78)"/>
                                      </p:to>
                                    </p:set>
                                    <p:set>
                                      <p:cBhvr>
                                        <p:cTn id="1108" dur="indefinite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indefinite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-78,-78,-78)"/>
                                      </p:to>
                                    </p:set>
                                    <p:set>
                                      <p:cBhvr>
                                        <p:cTn id="1111" dur="indefinite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indefinite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-78,-78,-78)"/>
                                      </p:to>
                                    </p:set>
                                    <p:set>
                                      <p:cBhvr>
                                        <p:cTn id="1114" dur="indefinite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indefinite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-78,-78,-78)"/>
                                      </p:to>
                                    </p:set>
                                    <p:set>
                                      <p:cBhvr>
                                        <p:cTn id="1119" dur="indefinite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indefinite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-78,-78,-78)"/>
                                      </p:to>
                                    </p:set>
                                    <p:set>
                                      <p:cBhvr>
                                        <p:cTn id="1124" dur="indefinite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indefinite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-78,-78,-78)"/>
                                      </p:to>
                                    </p:set>
                                    <p:set>
                                      <p:cBhvr>
                                        <p:cTn id="1129" dur="indefinite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mph" presetID="7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3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nges in Suppl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Firm and Industr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quilibrium Pric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Market Price and Profit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Firm Versus Industry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aphically…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1000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1000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1000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1868400" y="1162080"/>
            <a:ext cx="7005600" cy="4506120"/>
            <a:chOff x="1868400" y="1162080"/>
            <a:chExt cx="7005600" cy="4506120"/>
          </a:xfrm>
        </p:grpSpPr>
        <p:sp>
          <p:nvSpPr>
            <p:cNvPr id="681" name=""/>
            <p:cNvSpPr/>
            <p:nvPr/>
          </p:nvSpPr>
          <p:spPr>
            <a:xfrm>
              <a:off x="2278080" y="1676520"/>
              <a:ext cx="2949480" cy="3711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819760" y="1684440"/>
              <a:ext cx="2949480" cy="3711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32120" y="116208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33"/>
                  </a:solidFill>
                  <a:latin typeface="Arial"/>
                </a:rPr>
                <a:t>Single Fi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603840" y="117000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33"/>
                  </a:solidFill>
                  <a:latin typeface="Arial"/>
                </a:rPr>
                <a:t>Indus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68400" y="1533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43640" y="15415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10120" y="53308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574480" y="5361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77920" y="5300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08440" y="530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5996160" y="1689120"/>
            <a:ext cx="104760" cy="3692520"/>
          </a:xfrm>
          <a:custGeom>
            <a:avLst/>
            <a:gdLst/>
            <a:ahLst/>
            <a:rect l="l" t="t" r="r" b="b"/>
            <a:pathLst>
              <a:path w="175" h="2271">
                <a:moveTo>
                  <a:pt x="19" y="0"/>
                </a:moveTo>
                <a:cubicBezTo>
                  <a:pt x="43" y="25"/>
                  <a:pt x="166" y="89"/>
                  <a:pt x="166" y="143"/>
                </a:cubicBezTo>
                <a:cubicBezTo>
                  <a:pt x="166" y="197"/>
                  <a:pt x="19" y="262"/>
                  <a:pt x="19" y="322"/>
                </a:cubicBezTo>
                <a:cubicBezTo>
                  <a:pt x="19" y="382"/>
                  <a:pt x="168" y="453"/>
                  <a:pt x="166" y="506"/>
                </a:cubicBezTo>
                <a:cubicBezTo>
                  <a:pt x="164" y="560"/>
                  <a:pt x="6" y="595"/>
                  <a:pt x="7" y="645"/>
                </a:cubicBezTo>
                <a:cubicBezTo>
                  <a:pt x="8" y="695"/>
                  <a:pt x="172" y="752"/>
                  <a:pt x="173" y="808"/>
                </a:cubicBezTo>
                <a:cubicBezTo>
                  <a:pt x="174" y="864"/>
                  <a:pt x="17" y="922"/>
                  <a:pt x="15" y="983"/>
                </a:cubicBezTo>
                <a:cubicBezTo>
                  <a:pt x="13" y="1044"/>
                  <a:pt x="162" y="1116"/>
                  <a:pt x="160" y="1172"/>
                </a:cubicBezTo>
                <a:cubicBezTo>
                  <a:pt x="158" y="1228"/>
                  <a:pt x="7" y="1271"/>
                  <a:pt x="6" y="1321"/>
                </a:cubicBezTo>
                <a:cubicBezTo>
                  <a:pt x="5" y="1371"/>
                  <a:pt x="151" y="1417"/>
                  <a:pt x="154" y="1471"/>
                </a:cubicBezTo>
                <a:cubicBezTo>
                  <a:pt x="157" y="1525"/>
                  <a:pt x="23" y="1594"/>
                  <a:pt x="26" y="1647"/>
                </a:cubicBezTo>
                <a:cubicBezTo>
                  <a:pt x="29" y="1699"/>
                  <a:pt x="175" y="1738"/>
                  <a:pt x="173" y="1790"/>
                </a:cubicBezTo>
                <a:cubicBezTo>
                  <a:pt x="171" y="1842"/>
                  <a:pt x="13" y="1906"/>
                  <a:pt x="13" y="1959"/>
                </a:cubicBezTo>
                <a:cubicBezTo>
                  <a:pt x="13" y="2012"/>
                  <a:pt x="175" y="2056"/>
                  <a:pt x="173" y="2108"/>
                </a:cubicBezTo>
                <a:cubicBezTo>
                  <a:pt x="171" y="2160"/>
                  <a:pt x="36" y="2237"/>
                  <a:pt x="0" y="2271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284560" y="3592440"/>
            <a:ext cx="1917720" cy="2174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nges in Suppl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382480" y="277164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511360" y="2473200"/>
            <a:ext cx="2238480" cy="2048040"/>
            <a:chOff x="2511360" y="2473200"/>
            <a:chExt cx="2238480" cy="2048040"/>
          </a:xfrm>
        </p:grpSpPr>
        <p:sp>
          <p:nvSpPr>
            <p:cNvPr id="696" name=""/>
            <p:cNvSpPr/>
            <p:nvPr/>
          </p:nvSpPr>
          <p:spPr>
            <a:xfrm>
              <a:off x="2511360" y="3960720"/>
              <a:ext cx="1239840" cy="560520"/>
            </a:xfrm>
            <a:custGeom>
              <a:avLst/>
              <a:gdLst/>
              <a:ahLst/>
              <a:rect l="l" t="t" r="r" b="b"/>
              <a:pathLst>
                <a:path w="1600" h="456">
                  <a:moveTo>
                    <a:pt x="0" y="0"/>
                  </a:moveTo>
                  <a:cubicBezTo>
                    <a:pt x="174" y="117"/>
                    <a:pt x="349" y="235"/>
                    <a:pt x="491" y="307"/>
                  </a:cubicBezTo>
                  <a:cubicBezTo>
                    <a:pt x="633" y="378"/>
                    <a:pt x="744" y="413"/>
                    <a:pt x="853" y="432"/>
                  </a:cubicBezTo>
                  <a:cubicBezTo>
                    <a:pt x="962" y="451"/>
                    <a:pt x="1019" y="456"/>
                    <a:pt x="1143" y="424"/>
                  </a:cubicBezTo>
                  <a:cubicBezTo>
                    <a:pt x="1267" y="392"/>
                    <a:pt x="1505" y="279"/>
                    <a:pt x="1600" y="241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06720" y="2473200"/>
              <a:ext cx="843120" cy="1679760"/>
            </a:xfrm>
            <a:custGeom>
              <a:avLst/>
              <a:gdLst/>
              <a:ahLst/>
              <a:rect l="l" t="t" r="r" b="b"/>
              <a:pathLst>
                <a:path w="531" h="1058">
                  <a:moveTo>
                    <a:pt x="0" y="1058"/>
                  </a:moveTo>
                  <a:cubicBezTo>
                    <a:pt x="29" y="1005"/>
                    <a:pt x="83" y="919"/>
                    <a:pt x="172" y="742"/>
                  </a:cubicBezTo>
                  <a:cubicBezTo>
                    <a:pt x="260" y="566"/>
                    <a:pt x="395" y="282"/>
                    <a:pt x="531" y="0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259680" y="2119320"/>
            <a:ext cx="1384200" cy="2211480"/>
          </a:xfrm>
          <a:custGeom>
            <a:avLst/>
            <a:gdLst/>
            <a:ahLst/>
            <a:rect l="l" t="t" r="r" b="b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232080" y="3824280"/>
            <a:ext cx="1338480" cy="320760"/>
          </a:xfrm>
          <a:custGeom>
            <a:avLst/>
            <a:gdLst/>
            <a:ahLst/>
            <a:rect l="l" t="t" r="r" b="b"/>
            <a:pathLst>
              <a:path w="1515" h="250">
                <a:moveTo>
                  <a:pt x="0" y="20"/>
                </a:moveTo>
                <a:cubicBezTo>
                  <a:pt x="264" y="135"/>
                  <a:pt x="529" y="250"/>
                  <a:pt x="781" y="247"/>
                </a:cubicBezTo>
                <a:cubicBezTo>
                  <a:pt x="1033" y="244"/>
                  <a:pt x="1274" y="122"/>
                  <a:pt x="1515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184560" y="3313080"/>
            <a:ext cx="1784160" cy="517680"/>
          </a:xfrm>
          <a:custGeom>
            <a:avLst/>
            <a:gdLst/>
            <a:ahLst/>
            <a:rect l="l" t="t" r="r" b="b"/>
            <a:pathLst>
              <a:path w="1515" h="250">
                <a:moveTo>
                  <a:pt x="0" y="20"/>
                </a:moveTo>
                <a:cubicBezTo>
                  <a:pt x="264" y="135"/>
                  <a:pt x="529" y="250"/>
                  <a:pt x="781" y="247"/>
                </a:cubicBezTo>
                <a:cubicBezTo>
                  <a:pt x="1033" y="244"/>
                  <a:pt x="1274" y="122"/>
                  <a:pt x="1515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274840" y="360828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248520" y="2697120"/>
            <a:ext cx="2079360" cy="1631880"/>
          </a:xfrm>
          <a:custGeom>
            <a:avLst/>
            <a:gdLst/>
            <a:ahLst/>
            <a:rect l="l" t="t" r="r" b="b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37040" y="33433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732920" y="30592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574520" y="37227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368960" y="217476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823400" y="34592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365080" y="3456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62680" y="3603600"/>
            <a:ext cx="369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13280" y="3592440"/>
            <a:ext cx="136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10600" y="4233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260840" y="1808280"/>
            <a:ext cx="110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∑ MC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202280" y="3592440"/>
            <a:ext cx="0" cy="17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165800" y="3603600"/>
            <a:ext cx="0" cy="179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132440" y="3538440"/>
            <a:ext cx="12996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095960" y="3524400"/>
            <a:ext cx="130320" cy="129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066560" y="5356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906600" y="53532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873520" y="3341520"/>
            <a:ext cx="87120" cy="40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71720" y="5735520"/>
            <a:ext cx="66654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Competitive Firm Must Take the Price t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Established By Industry Supply and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8139240" y="754200"/>
            <a:ext cx="746280" cy="709920"/>
            <a:chOff x="8139240" y="754200"/>
            <a:chExt cx="746280" cy="709920"/>
          </a:xfrm>
        </p:grpSpPr>
        <p:pic>
          <p:nvPicPr>
            <p:cNvPr id="72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28160" y="754200"/>
              <a:ext cx="51912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>
              <a:hlinkClick r:id="rId3"/>
            </p:cNvPr>
            <p:cNvSpPr/>
            <p:nvPr/>
          </p:nvSpPr>
          <p:spPr>
            <a:xfrm>
              <a:off x="8139240" y="115704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 21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1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5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9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3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8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2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752120" y="87480"/>
            <a:ext cx="7086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fit Maximization in the Long Ru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740960" y="1211040"/>
            <a:ext cx="7086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Assumptions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ntry and Exit Only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Identical Cost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nstant-Cost Industry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Goal of the Analysis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Long-Run Equilibrium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ntry Eliminates Profit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xit Eliminates Losse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0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1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10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10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indefinite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10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1000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1000"/>
                                        <p:tgtEl>
                                          <p:spTgt spid="7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812880"/>
            <a:ext cx="708660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Names and Main Characteristics of the Four Basic Market Models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Conditions for Perfect Competition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How Do Purely Competitive Firms Maximize Profits or Minimize Losses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Why the Marginal Cost and Supply Curves For Competitive Firms Are Identical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How Industry Entry and Exit Create Economic Efficiency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Differences Between Constant-Cost, Increasing-Cost, and Decreasing-Cost Industries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"/>
          <p:cNvGrpSpPr/>
          <p:nvPr/>
        </p:nvGrpSpPr>
        <p:grpSpPr>
          <a:xfrm>
            <a:off x="1868400" y="1162080"/>
            <a:ext cx="7005600" cy="4506120"/>
            <a:chOff x="1868400" y="1162080"/>
            <a:chExt cx="7005600" cy="4506120"/>
          </a:xfrm>
        </p:grpSpPr>
        <p:grpSp>
          <p:nvGrpSpPr>
            <p:cNvPr id="727" name=""/>
            <p:cNvGrpSpPr/>
            <p:nvPr/>
          </p:nvGrpSpPr>
          <p:grpSpPr>
            <a:xfrm>
              <a:off x="1868400" y="1162080"/>
              <a:ext cx="7005600" cy="4506120"/>
              <a:chOff x="1868400" y="1162080"/>
              <a:chExt cx="7005600" cy="4506120"/>
            </a:xfrm>
          </p:grpSpPr>
          <p:sp>
            <p:nvSpPr>
              <p:cNvPr id="728" name=""/>
              <p:cNvSpPr/>
              <p:nvPr/>
            </p:nvSpPr>
            <p:spPr>
              <a:xfrm>
                <a:off x="2278080" y="1676520"/>
                <a:ext cx="2949480" cy="3711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819760" y="1684440"/>
                <a:ext cx="2949480" cy="3711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832120" y="1162080"/>
                <a:ext cx="184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990033"/>
                    </a:solidFill>
                    <a:latin typeface="Arial"/>
                  </a:rPr>
                  <a:t>Single Fi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603840" y="1170000"/>
                <a:ext cx="138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990033"/>
                    </a:solidFill>
                    <a:latin typeface="Arial"/>
                  </a:rPr>
                  <a:t>Indust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868400" y="1533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543640" y="15415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010120" y="533088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574480" y="5361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077920" y="5300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608440" y="530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5996160" y="1689120"/>
              <a:ext cx="104760" cy="3692520"/>
            </a:xfrm>
            <a:custGeom>
              <a:avLst/>
              <a:gdLst/>
              <a:ahLst/>
              <a:rect l="l" t="t" r="r" b="b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421080" y="53560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39280" y="53532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25040" y="53532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554600" y="535320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upply Readjustmen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87720" y="2395440"/>
            <a:ext cx="1050840" cy="1919520"/>
          </a:xfrm>
          <a:custGeom>
            <a:avLst/>
            <a:gdLst/>
            <a:ahLst/>
            <a:rect l="l" t="t" r="r" b="b"/>
            <a:pathLst>
              <a:path w="531" h="1058">
                <a:moveTo>
                  <a:pt x="0" y="1058"/>
                </a:moveTo>
                <a:cubicBezTo>
                  <a:pt x="53" y="982"/>
                  <a:pt x="229" y="778"/>
                  <a:pt x="317" y="602"/>
                </a:cubicBezTo>
                <a:cubicBezTo>
                  <a:pt x="405" y="426"/>
                  <a:pt x="487" y="125"/>
                  <a:pt x="531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259680" y="2119320"/>
            <a:ext cx="1384200" cy="2211480"/>
          </a:xfrm>
          <a:custGeom>
            <a:avLst/>
            <a:gdLst/>
            <a:ahLst/>
            <a:rect l="l" t="t" r="r" b="b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629080" y="2916360"/>
            <a:ext cx="1992240" cy="680760"/>
          </a:xfrm>
          <a:custGeom>
            <a:avLst/>
            <a:gdLst/>
            <a:ahLst/>
            <a:rect l="l" t="t" r="r" b="b"/>
            <a:pathLst>
              <a:path w="1515" h="250">
                <a:moveTo>
                  <a:pt x="0" y="20"/>
                </a:moveTo>
                <a:cubicBezTo>
                  <a:pt x="264" y="135"/>
                  <a:pt x="529" y="250"/>
                  <a:pt x="781" y="247"/>
                </a:cubicBezTo>
                <a:cubicBezTo>
                  <a:pt x="1033" y="244"/>
                  <a:pt x="1274" y="122"/>
                  <a:pt x="1515" y="0"/>
                </a:cubicBezTo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274840" y="360828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248520" y="2697120"/>
            <a:ext cx="2079360" cy="1631880"/>
          </a:xfrm>
          <a:custGeom>
            <a:avLst/>
            <a:gdLst/>
            <a:ahLst/>
            <a:rect l="l" t="t" r="r" b="b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10520" y="2736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40480" y="36003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125960" y="21747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824120" y="2771640"/>
            <a:ext cx="43668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062680" y="3603600"/>
            <a:ext cx="369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313480" y="423396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488000" y="18082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635280" y="3592440"/>
            <a:ext cx="0" cy="17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65800" y="3603600"/>
            <a:ext cx="0" cy="179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565440" y="3538440"/>
            <a:ext cx="13032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651320" y="5602320"/>
            <a:ext cx="7278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An Increase in Demand Temporarily Raises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Higher Prices Draw in New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Increased Supply Returns Price to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400800" y="2427120"/>
            <a:ext cx="2200320" cy="1305000"/>
          </a:xfrm>
          <a:custGeom>
            <a:avLst/>
            <a:gdLst/>
            <a:ahLst/>
            <a:rect l="l" t="t" r="r" b="b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432640" y="3730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410080" y="2768760"/>
            <a:ext cx="43668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689880" y="3063960"/>
            <a:ext cx="1742760" cy="1797120"/>
          </a:xfrm>
          <a:custGeom>
            <a:avLst/>
            <a:gdLst/>
            <a:ahLst/>
            <a:rect l="l" t="t" r="r" b="b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96200" y="27716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821200" y="3144960"/>
            <a:ext cx="15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15200" y="3076560"/>
            <a:ext cx="13032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2760" y="313848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821200" y="3589200"/>
            <a:ext cx="244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2328840" y="3189240"/>
            <a:ext cx="2303640" cy="347760"/>
            <a:chOff x="2328840" y="3189240"/>
            <a:chExt cx="2303640" cy="347760"/>
          </a:xfrm>
        </p:grpSpPr>
        <p:sp>
          <p:nvSpPr>
            <p:cNvPr id="770" name=""/>
            <p:cNvSpPr/>
            <p:nvPr/>
          </p:nvSpPr>
          <p:spPr>
            <a:xfrm>
              <a:off x="2328840" y="3189240"/>
              <a:ext cx="262080" cy="347760"/>
            </a:xfrm>
            <a:prstGeom prst="upArrow">
              <a:avLst>
                <a:gd name="adj1" fmla="val 50000"/>
                <a:gd name="adj2" fmla="val 33173"/>
              </a:avLst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370400" y="3189240"/>
              <a:ext cx="262080" cy="347760"/>
            </a:xfrm>
            <a:prstGeom prst="upArrow">
              <a:avLst>
                <a:gd name="adj1" fmla="val 50000"/>
                <a:gd name="adj2" fmla="val 33173"/>
              </a:avLst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5813280" y="3592440"/>
            <a:ext cx="13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201160" y="3517920"/>
            <a:ext cx="12996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093000" y="3186000"/>
            <a:ext cx="261720" cy="347760"/>
          </a:xfrm>
          <a:prstGeom prst="upArrow">
            <a:avLst>
              <a:gd name="adj1" fmla="val 50000"/>
              <a:gd name="adj2" fmla="val 33219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2614680" y="3197160"/>
            <a:ext cx="2302920" cy="347760"/>
            <a:chOff x="2614680" y="3197160"/>
            <a:chExt cx="2302920" cy="347760"/>
          </a:xfrm>
        </p:grpSpPr>
        <p:sp>
          <p:nvSpPr>
            <p:cNvPr id="776" name=""/>
            <p:cNvSpPr/>
            <p:nvPr/>
          </p:nvSpPr>
          <p:spPr>
            <a:xfrm flipV="1">
              <a:off x="2614680" y="3197160"/>
              <a:ext cx="261720" cy="347760"/>
            </a:xfrm>
            <a:prstGeom prst="upArrow">
              <a:avLst>
                <a:gd name="adj1" fmla="val 50000"/>
                <a:gd name="adj2" fmla="val 33219"/>
              </a:avLst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4655880" y="3197160"/>
              <a:ext cx="261720" cy="347760"/>
            </a:xfrm>
            <a:prstGeom prst="upArrow">
              <a:avLst>
                <a:gd name="adj1" fmla="val 50000"/>
                <a:gd name="adj2" fmla="val 33219"/>
              </a:avLst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 flipV="1">
            <a:off x="6378480" y="3205080"/>
            <a:ext cx="262080" cy="347760"/>
          </a:xfrm>
          <a:prstGeom prst="upArrow">
            <a:avLst>
              <a:gd name="adj1" fmla="val 50000"/>
              <a:gd name="adj2" fmla="val 33173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95960" y="3524400"/>
            <a:ext cx="130320" cy="129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10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indefinite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1447" dur="indefinite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4.72222E-006 -0.06666 E">
                                      <p:cBhvr>
                                        <p:cTn id="1460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indefinite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1466" dur="indefinite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10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indefinite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-1,-52,51)"/>
                                      </p:to>
                                    </p:set>
                                    <p:set>
                                      <p:cBhvr>
                                        <p:cTn id="1486" dur="indefinite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3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10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5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506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6666 L 5.55556E-007 0.00023 E">
                                      <p:cBhvr>
                                        <p:cTn id="1509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indefinite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1512" dur="indefinite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1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9900"/>
                                      </p:to>
                                    </p:animClr>
                                    <p:set>
                                      <p:cBhvr>
                                        <p:cTn id="1522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5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8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"/>
          <p:cNvGrpSpPr/>
          <p:nvPr/>
        </p:nvGrpSpPr>
        <p:grpSpPr>
          <a:xfrm>
            <a:off x="1868400" y="1162080"/>
            <a:ext cx="7005600" cy="4506120"/>
            <a:chOff x="1868400" y="1162080"/>
            <a:chExt cx="7005600" cy="4506120"/>
          </a:xfrm>
        </p:grpSpPr>
        <p:grpSp>
          <p:nvGrpSpPr>
            <p:cNvPr id="781" name=""/>
            <p:cNvGrpSpPr/>
            <p:nvPr/>
          </p:nvGrpSpPr>
          <p:grpSpPr>
            <a:xfrm>
              <a:off x="1868400" y="1162080"/>
              <a:ext cx="7005600" cy="4506120"/>
              <a:chOff x="1868400" y="1162080"/>
              <a:chExt cx="7005600" cy="4506120"/>
            </a:xfrm>
          </p:grpSpPr>
          <p:sp>
            <p:nvSpPr>
              <p:cNvPr id="782" name=""/>
              <p:cNvSpPr/>
              <p:nvPr/>
            </p:nvSpPr>
            <p:spPr>
              <a:xfrm>
                <a:off x="2278080" y="1676520"/>
                <a:ext cx="2949480" cy="3711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19760" y="1684440"/>
                <a:ext cx="2949480" cy="3711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832120" y="1162080"/>
                <a:ext cx="184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990033"/>
                    </a:solidFill>
                    <a:latin typeface="Arial"/>
                  </a:rPr>
                  <a:t>Single Fi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603840" y="1170000"/>
                <a:ext cx="138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990033"/>
                    </a:solidFill>
                    <a:latin typeface="Arial"/>
                  </a:rPr>
                  <a:t>Indust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868400" y="1533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543640" y="15415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010120" y="533088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574480" y="5361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077920" y="5300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608440" y="530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"/>
            <p:cNvSpPr/>
            <p:nvPr/>
          </p:nvSpPr>
          <p:spPr>
            <a:xfrm>
              <a:off x="5996160" y="1689120"/>
              <a:ext cx="104760" cy="3692520"/>
            </a:xfrm>
            <a:custGeom>
              <a:avLst/>
              <a:gdLst/>
              <a:ahLst/>
              <a:rect l="l" t="t" r="r" b="b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21080" y="53560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839280" y="53532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36040" y="53532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887960" y="535320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upply Readjustmen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087720" y="2395440"/>
            <a:ext cx="1050840" cy="1919520"/>
          </a:xfrm>
          <a:custGeom>
            <a:avLst/>
            <a:gdLst/>
            <a:ahLst/>
            <a:rect l="l" t="t" r="r" b="b"/>
            <a:pathLst>
              <a:path w="531" h="1058">
                <a:moveTo>
                  <a:pt x="0" y="1058"/>
                </a:moveTo>
                <a:cubicBezTo>
                  <a:pt x="53" y="982"/>
                  <a:pt x="229" y="778"/>
                  <a:pt x="317" y="602"/>
                </a:cubicBezTo>
                <a:cubicBezTo>
                  <a:pt x="405" y="426"/>
                  <a:pt x="487" y="125"/>
                  <a:pt x="531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259680" y="2119320"/>
            <a:ext cx="1384200" cy="2211480"/>
          </a:xfrm>
          <a:custGeom>
            <a:avLst/>
            <a:gdLst/>
            <a:ahLst/>
            <a:rect l="l" t="t" r="r" b="b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29080" y="2916360"/>
            <a:ext cx="1992240" cy="680760"/>
          </a:xfrm>
          <a:custGeom>
            <a:avLst/>
            <a:gdLst/>
            <a:ahLst/>
            <a:rect l="l" t="t" r="r" b="b"/>
            <a:pathLst>
              <a:path w="1515" h="250">
                <a:moveTo>
                  <a:pt x="0" y="20"/>
                </a:moveTo>
                <a:cubicBezTo>
                  <a:pt x="264" y="135"/>
                  <a:pt x="529" y="250"/>
                  <a:pt x="781" y="247"/>
                </a:cubicBezTo>
                <a:cubicBezTo>
                  <a:pt x="1033" y="244"/>
                  <a:pt x="1274" y="122"/>
                  <a:pt x="1515" y="0"/>
                </a:cubicBezTo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274840" y="360828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248520" y="2697120"/>
            <a:ext cx="2079360" cy="1631880"/>
          </a:xfrm>
          <a:custGeom>
            <a:avLst/>
            <a:gdLst/>
            <a:ahLst/>
            <a:rect l="l" t="t" r="r" b="b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610520" y="2736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762800" y="36003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125960" y="21747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824120" y="2771640"/>
            <a:ext cx="43668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095800" y="3603600"/>
            <a:ext cx="3700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313480" y="423396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488000" y="18082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635280" y="3592440"/>
            <a:ext cx="0" cy="17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165800" y="3603600"/>
            <a:ext cx="0" cy="179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565440" y="3538440"/>
            <a:ext cx="13032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640520" y="5602320"/>
            <a:ext cx="72946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A Decrease in Demand Temporarily Lowers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Lower Prices Drive Away Some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Decreased Supply Returns Price to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400800" y="2427120"/>
            <a:ext cx="2200320" cy="1305000"/>
          </a:xfrm>
          <a:custGeom>
            <a:avLst/>
            <a:gdLst/>
            <a:ahLst/>
            <a:rect l="l" t="t" r="r" b="b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432640" y="3730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410080" y="2768760"/>
            <a:ext cx="43668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689880" y="3063960"/>
            <a:ext cx="1742760" cy="1797120"/>
          </a:xfrm>
          <a:custGeom>
            <a:avLst/>
            <a:gdLst/>
            <a:ahLst/>
            <a:rect l="l" t="t" r="r" b="b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296200" y="27716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821200" y="4111560"/>
            <a:ext cx="212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904160" y="4043520"/>
            <a:ext cx="130320" cy="129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282760" y="407196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821200" y="3589200"/>
            <a:ext cx="244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2562120" y="3666960"/>
            <a:ext cx="2303640" cy="347760"/>
            <a:chOff x="2562120" y="3666960"/>
            <a:chExt cx="2303640" cy="347760"/>
          </a:xfrm>
        </p:grpSpPr>
        <p:sp>
          <p:nvSpPr>
            <p:cNvPr id="824" name=""/>
            <p:cNvSpPr/>
            <p:nvPr/>
          </p:nvSpPr>
          <p:spPr>
            <a:xfrm>
              <a:off x="2562120" y="3666960"/>
              <a:ext cx="262080" cy="347760"/>
            </a:xfrm>
            <a:prstGeom prst="upArrow">
              <a:avLst>
                <a:gd name="adj1" fmla="val 50000"/>
                <a:gd name="adj2" fmla="val 33173"/>
              </a:avLst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03680" y="3666960"/>
              <a:ext cx="262080" cy="347760"/>
            </a:xfrm>
            <a:prstGeom prst="upArrow">
              <a:avLst>
                <a:gd name="adj1" fmla="val 50000"/>
                <a:gd name="adj2" fmla="val 33173"/>
              </a:avLst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5813280" y="3592440"/>
            <a:ext cx="13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6093000" y="3652920"/>
            <a:ext cx="261720" cy="347760"/>
          </a:xfrm>
          <a:prstGeom prst="upArrow">
            <a:avLst>
              <a:gd name="adj1" fmla="val 50000"/>
              <a:gd name="adj2" fmla="val 33219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2303640" y="3663720"/>
            <a:ext cx="2302920" cy="347400"/>
            <a:chOff x="2303640" y="3663720"/>
            <a:chExt cx="2302920" cy="347400"/>
          </a:xfrm>
        </p:grpSpPr>
        <p:sp>
          <p:nvSpPr>
            <p:cNvPr id="829" name=""/>
            <p:cNvSpPr/>
            <p:nvPr/>
          </p:nvSpPr>
          <p:spPr>
            <a:xfrm flipV="1">
              <a:off x="2303640" y="3663360"/>
              <a:ext cx="261720" cy="347400"/>
            </a:xfrm>
            <a:prstGeom prst="upArrow">
              <a:avLst>
                <a:gd name="adj1" fmla="val 50000"/>
                <a:gd name="adj2" fmla="val 33184"/>
              </a:avLst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4344840" y="3663360"/>
              <a:ext cx="261720" cy="347400"/>
            </a:xfrm>
            <a:prstGeom prst="upArrow">
              <a:avLst>
                <a:gd name="adj1" fmla="val 50000"/>
                <a:gd name="adj2" fmla="val 33184"/>
              </a:avLst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6378480" y="3672000"/>
            <a:ext cx="262080" cy="347400"/>
          </a:xfrm>
          <a:prstGeom prst="upArrow">
            <a:avLst>
              <a:gd name="adj1" fmla="val 50000"/>
              <a:gd name="adj2" fmla="val 33139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095960" y="3524400"/>
            <a:ext cx="130320" cy="129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263080" y="3589200"/>
            <a:ext cx="0" cy="17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201160" y="3517920"/>
            <a:ext cx="12996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0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8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5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5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8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6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indefinite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1611" dur="indefinite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0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0.00139 L -0.00365 0.06991 E">
                                      <p:cBhvr>
                                        <p:cTn id="1624" dur="2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4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indefinite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1637" dur="indefinite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10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6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indefinite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-1,-52,51)"/>
                                      </p:to>
                                    </p:set>
                                    <p:set>
                                      <p:cBhvr>
                                        <p:cTn id="1649" dur="indefinite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1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10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6991 L -0.00486 0.00185 E">
                                      <p:cBhvr>
                                        <p:cTn id="1672" dur="2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5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8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indefinite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1681" dur="indefinite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9" nodeType="after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indefinite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-103,102)"/>
                                      </p:to>
                                    </p:set>
                                    <p:set>
                                      <p:cBhvr>
                                        <p:cTn id="1691" dur="indefinite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2712600" y="1832040"/>
            <a:ext cx="5658840" cy="3901320"/>
            <a:chOff x="2712600" y="1832040"/>
            <a:chExt cx="5658840" cy="3901320"/>
          </a:xfrm>
        </p:grpSpPr>
        <p:sp>
          <p:nvSpPr>
            <p:cNvPr id="836" name=""/>
            <p:cNvSpPr/>
            <p:nvPr/>
          </p:nvSpPr>
          <p:spPr>
            <a:xfrm>
              <a:off x="3102120" y="2003400"/>
              <a:ext cx="5116320" cy="3429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712600" y="1832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843280" y="5340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06680" y="2017800"/>
              <a:ext cx="115920" cy="3408120"/>
            </a:xfrm>
            <a:custGeom>
              <a:avLst/>
              <a:gdLst/>
              <a:ahLst/>
              <a:rect l="l" t="t" r="r" b="b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033760" y="53960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697040" y="87480"/>
            <a:ext cx="728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ng-Run Supply Curv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752120" y="923760"/>
            <a:ext cx="708660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Constant-Cost Industr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38400" y="56358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423760" y="5635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920640" y="5635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120560" y="540720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639760" y="54039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136640" y="54007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651760" y="35514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2126520" y="3122640"/>
            <a:ext cx="540360" cy="1478160"/>
            <a:chOff x="2126520" y="3122640"/>
            <a:chExt cx="540360" cy="1478160"/>
          </a:xfrm>
        </p:grpSpPr>
        <p:sp>
          <p:nvSpPr>
            <p:cNvPr id="851" name=""/>
            <p:cNvSpPr/>
            <p:nvPr/>
          </p:nvSpPr>
          <p:spPr>
            <a:xfrm>
              <a:off x="2126520" y="3122640"/>
              <a:ext cx="38196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448000" y="3159000"/>
              <a:ext cx="218880" cy="1089000"/>
            </a:xfrm>
            <a:custGeom>
              <a:avLst/>
              <a:gdLst>
                <a:gd name="textAreaLeft" fmla="*/ 0 w 218880"/>
                <a:gd name="textAreaRight" fmla="*/ 78840 w 218880"/>
                <a:gd name="textAreaTop" fmla="*/ 28080 h 1089000"/>
                <a:gd name="textAreaBottom" fmla="*/ 1060920 h 10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3102120" y="3691080"/>
            <a:ext cx="4800600" cy="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866360" y="3510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670200" y="2614680"/>
            <a:ext cx="136224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200560" y="2614680"/>
            <a:ext cx="136224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686640" y="2614680"/>
            <a:ext cx="136188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311720" y="3668760"/>
            <a:ext cx="0" cy="17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830920" y="3676680"/>
            <a:ext cx="0" cy="17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327800" y="3673440"/>
            <a:ext cx="0" cy="17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45120" y="3613320"/>
            <a:ext cx="14112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764320" y="3610080"/>
            <a:ext cx="14112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61200" y="3606840"/>
            <a:ext cx="14148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504760" y="3691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024320" y="3691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976200" y="3691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851360" y="4876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448320" y="4876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878600" y="4876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0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1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1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0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6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7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4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2712600" y="1832040"/>
            <a:ext cx="5658840" cy="3901320"/>
            <a:chOff x="2712600" y="1832040"/>
            <a:chExt cx="5658840" cy="3901320"/>
          </a:xfrm>
        </p:grpSpPr>
        <p:sp>
          <p:nvSpPr>
            <p:cNvPr id="871" name=""/>
            <p:cNvSpPr/>
            <p:nvPr/>
          </p:nvSpPr>
          <p:spPr>
            <a:xfrm>
              <a:off x="3102120" y="2003400"/>
              <a:ext cx="5116320" cy="3429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12600" y="1832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43280" y="5340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06680" y="2017800"/>
              <a:ext cx="115920" cy="3408120"/>
            </a:xfrm>
            <a:custGeom>
              <a:avLst/>
              <a:gdLst/>
              <a:ahLst/>
              <a:rect l="l" t="t" r="r" b="b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33760" y="53960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97040" y="87480"/>
            <a:ext cx="728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ng-Run Supply Curv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752120" y="923760"/>
            <a:ext cx="708660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Increasing-Cost Industr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938400" y="56358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423760" y="5635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920640" y="5635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120560" y="540720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639760" y="54039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136640" y="54007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48520" y="35402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239560" y="35226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3265560" y="3135240"/>
            <a:ext cx="4657680" cy="13492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866360" y="2898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670200" y="3070080"/>
            <a:ext cx="1220760" cy="205920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200560" y="2614680"/>
            <a:ext cx="136224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686640" y="2203560"/>
            <a:ext cx="136188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311720" y="4176720"/>
            <a:ext cx="0" cy="12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830920" y="3665520"/>
            <a:ext cx="0" cy="17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327800" y="3303720"/>
            <a:ext cx="0" cy="212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538600" y="37688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035480" y="335772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020840" y="417996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851360" y="50101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448320" y="4876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878600" y="44658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648520" y="40035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648520" y="31338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237760" y="31305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239560" y="39830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3098520" y="3722760"/>
            <a:ext cx="273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3098880" y="3297240"/>
            <a:ext cx="425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3098520" y="4175280"/>
            <a:ext cx="119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45120" y="4113360"/>
            <a:ext cx="14112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64320" y="3654360"/>
            <a:ext cx="14112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261200" y="3228840"/>
            <a:ext cx="14148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81560" y="6005520"/>
            <a:ext cx="715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33"/>
                </a:solidFill>
                <a:latin typeface="Arial"/>
              </a:rPr>
              <a:t>How Would a Decreasing-Cost Industry Look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2" dur="indefinite" restart="never" nodeType="tmRoot">
          <p:childTnLst>
            <p:seq>
              <p:cTn id="1793" dur="indefinite" nodeType="mainSeq">
                <p:childTnLst>
                  <p:par>
                    <p:cTn id="1794" fill="hold">
                      <p:stCondLst>
                        <p:cond delay="0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8" dur="10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7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6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6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indefinite"/>
                                        <p:tgtEl>
                                          <p:spTgt spid="8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1849" dur="indefinite"/>
                                        <p:tgtEl>
                                          <p:spTgt spid="88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1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4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1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indefinite"/>
                                        <p:tgtEl>
                                          <p:spTgt spid="8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1884" dur="indefinite"/>
                                        <p:tgtEl>
                                          <p:spTgt spid="89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6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752480" y="87120"/>
            <a:ext cx="72597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ure Competition and Efficienc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752120" y="1174680"/>
            <a:ext cx="716292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roductive Efficiency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Minimum ATC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Allocative Efficiency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MC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Maximum Consumer and Producer Surplu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Dynamic Adjustment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Invisible Hand” Revisited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8146440" y="3240000"/>
            <a:ext cx="717120" cy="694440"/>
            <a:chOff x="8146440" y="3240000"/>
            <a:chExt cx="717120" cy="694440"/>
          </a:xfrm>
        </p:grpSpPr>
        <p:pic>
          <p:nvPicPr>
            <p:cNvPr id="91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98000" y="324000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>
              <a:hlinkClick r:id="rId3"/>
            </p:cNvPr>
            <p:cNvSpPr/>
            <p:nvPr/>
          </p:nvSpPr>
          <p:spPr>
            <a:xfrm>
              <a:off x="8146440" y="362736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2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0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"/>
                            </p:stCondLst>
                            <p:childTnLst>
                              <p:par>
                                <p:cTn id="1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7" dur="10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1" dur="10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6" dur="1000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indefinite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2" dur="1000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2" dur="1000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indefinite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9" dur="1000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5" dur="1000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1736640" y="1574640"/>
            <a:ext cx="7016760" cy="3506040"/>
            <a:chOff x="1736640" y="1574640"/>
            <a:chExt cx="7016760" cy="3506040"/>
          </a:xfrm>
        </p:grpSpPr>
        <p:sp>
          <p:nvSpPr>
            <p:cNvPr id="917" name=""/>
            <p:cNvSpPr/>
            <p:nvPr/>
          </p:nvSpPr>
          <p:spPr>
            <a:xfrm>
              <a:off x="2262240" y="2035080"/>
              <a:ext cx="2971800" cy="25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81600" y="2035080"/>
              <a:ext cx="2971800" cy="25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27440" y="157464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33"/>
                  </a:solidFill>
                  <a:latin typeface="Arial"/>
                </a:rPr>
                <a:t>Single Fi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85560" y="157464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33"/>
                  </a:solidFill>
                  <a:latin typeface="Arial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6200000">
              <a:off x="1566360" y="31194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16200000">
              <a:off x="5105160" y="31179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247560" y="474336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766920" y="474012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047680" y="4439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78200" y="4448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5780160" y="3713040"/>
            <a:ext cx="1577880" cy="522360"/>
          </a:xfrm>
          <a:custGeom>
            <a:avLst/>
            <a:gdLst/>
            <a:ahLst/>
            <a:rect l="l" t="t" r="r" b="b"/>
            <a:pathLst>
              <a:path w="994" h="329">
                <a:moveTo>
                  <a:pt x="0" y="329"/>
                </a:moveTo>
                <a:lnTo>
                  <a:pt x="302" y="294"/>
                </a:lnTo>
                <a:lnTo>
                  <a:pt x="508" y="253"/>
                </a:lnTo>
                <a:lnTo>
                  <a:pt x="727" y="178"/>
                </a:lnTo>
                <a:lnTo>
                  <a:pt x="885" y="102"/>
                </a:lnTo>
                <a:lnTo>
                  <a:pt x="994" y="0"/>
                </a:lnTo>
                <a:lnTo>
                  <a:pt x="7" y="0"/>
                </a:lnTo>
                <a:lnTo>
                  <a:pt x="0" y="32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752480" y="76320"/>
            <a:ext cx="7207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ng-Run Equilibriu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697040" y="790560"/>
            <a:ext cx="72388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Competitive Firm and Market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001960" y="3560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252520" y="3706920"/>
            <a:ext cx="265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842000" y="354960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61680" y="4091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780160" y="2519280"/>
            <a:ext cx="2155680" cy="1720800"/>
          </a:xfrm>
          <a:custGeom>
            <a:avLst/>
            <a:gdLst/>
            <a:ahLst/>
            <a:rect l="l" t="t" r="r" b="b"/>
            <a:pathLst>
              <a:path w="1358" h="1084">
                <a:moveTo>
                  <a:pt x="0" y="1084"/>
                </a:moveTo>
                <a:cubicBezTo>
                  <a:pt x="357" y="1033"/>
                  <a:pt x="714" y="983"/>
                  <a:pt x="940" y="802"/>
                </a:cubicBezTo>
                <a:cubicBezTo>
                  <a:pt x="1166" y="621"/>
                  <a:pt x="1262" y="310"/>
                  <a:pt x="1358" y="0"/>
                </a:cubicBezTo>
              </a:path>
            </a:pathLst>
          </a:cu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880400" y="2309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185960" y="447660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47720" y="4473720"/>
            <a:ext cx="35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590920" y="2882880"/>
            <a:ext cx="2122200" cy="817560"/>
          </a:xfrm>
          <a:custGeom>
            <a:avLst/>
            <a:gdLst/>
            <a:ahLst/>
            <a:rect l="l" t="t" r="r" b="b"/>
            <a:pathLst>
              <a:path w="1186" h="487">
                <a:moveTo>
                  <a:pt x="0" y="0"/>
                </a:moveTo>
                <a:cubicBezTo>
                  <a:pt x="185" y="236"/>
                  <a:pt x="371" y="473"/>
                  <a:pt x="569" y="480"/>
                </a:cubicBezTo>
                <a:cubicBezTo>
                  <a:pt x="767" y="487"/>
                  <a:pt x="976" y="264"/>
                  <a:pt x="1186" y="41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689360" y="2716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624120" y="3713040"/>
            <a:ext cx="0" cy="81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686600" y="5010120"/>
            <a:ext cx="72504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Productive Efficiency: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Price = Minimum A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Allocative Efficiency: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Price = 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ure Competition Has Both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ts Long-Run Equilib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95480" y="2395440"/>
            <a:ext cx="1262160" cy="1719360"/>
          </a:xfrm>
          <a:custGeom>
            <a:avLst/>
            <a:gdLst/>
            <a:ahLst/>
            <a:rect l="l" t="t" r="r" b="b"/>
            <a:pathLst>
              <a:path w="795" h="1083">
                <a:moveTo>
                  <a:pt x="0" y="1083"/>
                </a:moveTo>
                <a:cubicBezTo>
                  <a:pt x="159" y="1043"/>
                  <a:pt x="319" y="1003"/>
                  <a:pt x="452" y="822"/>
                </a:cubicBezTo>
                <a:cubicBezTo>
                  <a:pt x="585" y="641"/>
                  <a:pt x="690" y="320"/>
                  <a:pt x="795" y="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544920" y="3622680"/>
            <a:ext cx="14112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31000" y="21906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260440" y="2300400"/>
            <a:ext cx="1845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MC=Min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 (Normal Prof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276720" y="2743200"/>
            <a:ext cx="315720" cy="880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791320" y="2254320"/>
            <a:ext cx="1557360" cy="1436760"/>
          </a:xfrm>
          <a:custGeom>
            <a:avLst/>
            <a:gdLst/>
            <a:ahLst/>
            <a:rect l="l" t="t" r="r" b="b"/>
            <a:pathLst>
              <a:path w="981" h="905">
                <a:moveTo>
                  <a:pt x="0" y="905"/>
                </a:moveTo>
                <a:lnTo>
                  <a:pt x="0" y="0"/>
                </a:lnTo>
                <a:lnTo>
                  <a:pt x="981" y="905"/>
                </a:lnTo>
                <a:lnTo>
                  <a:pt x="0" y="905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532480" y="3557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5780160" y="3701880"/>
            <a:ext cx="15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791320" y="2233440"/>
            <a:ext cx="2112840" cy="197028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92880" y="3625920"/>
            <a:ext cx="14148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7" dur="10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5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2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5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2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0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10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5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100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8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1000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1000"/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601640" y="76320"/>
            <a:ext cx="7498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fficiency Gains From Entry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752120" y="1528560"/>
            <a:ext cx="7086600" cy="50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33"/>
                </a:solidFill>
                <a:latin typeface="Arial"/>
              </a:rPr>
              <a:t>Competitive Model Predicts Lower Price and Greater Output With Increased Efficiency When New Producers Enter Market</a:t>
            </a:r>
            <a:endParaRPr b="1" lang="en-US" sz="27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33"/>
                </a:solidFill>
                <a:latin typeface="Arial"/>
              </a:rPr>
              <a:t>Example is Patented Drugs</a:t>
            </a:r>
            <a:endParaRPr b="1" lang="en-US" sz="27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33"/>
                </a:solidFill>
                <a:latin typeface="Arial"/>
              </a:rPr>
              <a:t>Patents Enable Greater Profits in Support of R&amp;D and Accelerated Cost Recovery</a:t>
            </a:r>
            <a:endParaRPr b="1" lang="en-US" sz="27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33"/>
                </a:solidFill>
                <a:latin typeface="Arial"/>
              </a:rPr>
              <a:t>After Patent Period Generics Enter Market</a:t>
            </a:r>
            <a:endParaRPr b="1" lang="en-US" sz="27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33"/>
                </a:solidFill>
                <a:latin typeface="Arial"/>
              </a:rPr>
              <a:t>Profits Decrease and Quantities Increase</a:t>
            </a:r>
            <a:endParaRPr b="1" lang="en-US" sz="27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33"/>
                </a:solidFill>
                <a:latin typeface="Arial"/>
              </a:rPr>
              <a:t>Combined Consumer and Producer Surpluses Increase</a:t>
            </a:r>
            <a:endParaRPr b="1" lang="en-US" sz="27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rot="20204400">
            <a:off x="1620720" y="620280"/>
            <a:ext cx="1325520" cy="9860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004560" y="66348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The Case of Gener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0" dur="indefinite" restart="never" nodeType="tmRoot">
          <p:childTnLst>
            <p:seq>
              <p:cTn id="2081" dur="indefinite" nodeType="mainSeq">
                <p:childTnLst>
                  <p:par>
                    <p:cTn id="2082" fill="hold">
                      <p:stCondLst>
                        <p:cond delay="0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9" dur="10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4" dur="1000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1000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6" dur="1000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2" dur="1000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8" dur="1000"/>
                                        <p:tgtEl>
                                          <p:spTgt spid="9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4173480" y="1677960"/>
            <a:ext cx="4292640" cy="4056840"/>
            <a:chOff x="4173480" y="1677960"/>
            <a:chExt cx="4292640" cy="4056840"/>
          </a:xfrm>
        </p:grpSpPr>
        <p:sp>
          <p:nvSpPr>
            <p:cNvPr id="957" name=""/>
            <p:cNvSpPr/>
            <p:nvPr/>
          </p:nvSpPr>
          <p:spPr>
            <a:xfrm>
              <a:off x="4994280" y="1677960"/>
              <a:ext cx="3471840" cy="3471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16200000">
              <a:off x="4003200" y="315288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274800" y="539748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5737320" y="2549520"/>
            <a:ext cx="717480" cy="1273320"/>
          </a:xfrm>
          <a:custGeom>
            <a:avLst/>
            <a:gdLst/>
            <a:ahLst/>
            <a:rect l="l" t="t" r="r" b="b"/>
            <a:pathLst>
              <a:path w="452" h="802">
                <a:moveTo>
                  <a:pt x="0" y="0"/>
                </a:moveTo>
                <a:lnTo>
                  <a:pt x="452" y="418"/>
                </a:lnTo>
                <a:lnTo>
                  <a:pt x="7" y="802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601640" y="76320"/>
            <a:ext cx="7498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fficiency Gains From Entry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rot="20204400">
            <a:off x="1620720" y="620280"/>
            <a:ext cx="1325520" cy="9860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004560" y="66348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The Case of Gener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92160" y="23828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593600" y="30463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995720" y="1884240"/>
            <a:ext cx="3081600" cy="279900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4995720" y="1939680"/>
            <a:ext cx="2886120" cy="256860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8039160" y="452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865640" y="17384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545800" y="50990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236280" y="50990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454800" y="324324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740560" y="2557440"/>
            <a:ext cx="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4995360" y="2549520"/>
            <a:ext cx="752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4981680" y="3213000"/>
            <a:ext cx="144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389640" y="3146400"/>
            <a:ext cx="131760" cy="13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504480" y="30337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934160" y="1569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916880" y="29304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35880" y="232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921560" y="22683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938840" y="1816200"/>
            <a:ext cx="99720" cy="100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691240" y="2490840"/>
            <a:ext cx="100080" cy="100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709640" y="1749600"/>
            <a:ext cx="25718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As Price Decreases to 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onsumer Surplu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creases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Producer and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urplus is Max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ogether as Show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he Gray 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541480" y="1846440"/>
            <a:ext cx="193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Patent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802120" y="2135160"/>
            <a:ext cx="446040" cy="3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857400" y="5776920"/>
            <a:ext cx="4806000" cy="673200"/>
          </a:xfrm>
          <a:prstGeom prst="rect">
            <a:avLst/>
          </a:prstGeom>
          <a:solidFill>
            <a:srgbClr val="ffff66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Result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eater Quantity at Lower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redicted by the Competit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102120" y="1122480"/>
            <a:ext cx="50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ducers Ente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0" dur="indefinite" restart="never" nodeType="tmRoot">
          <p:childTnLst>
            <p:seq>
              <p:cTn id="2131" dur="indefinite" nodeType="mainSeq">
                <p:childTnLst>
                  <p:par>
                    <p:cTn id="2132" fill="hold">
                      <p:stCondLst>
                        <p:cond delay="0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5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5" dur="10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0" dur="10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5" dur="10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5" dur="10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indefinite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indefinite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3" dur="1000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7" dur="1000"/>
                                        <p:tgtEl>
                                          <p:spTgt spid="9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1000"/>
                                        <p:tgtEl>
                                          <p:spTgt spid="9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1725480" y="828720"/>
            <a:ext cx="7108920" cy="5692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b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752120" y="936360"/>
            <a:ext cx="346716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pure competition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pure monopoly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monopolistic competition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oligopoly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imperfect competition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price taker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average revenue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total revenue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marginal revenue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break-even point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MR=MC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short-run supply curve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372280" y="936360"/>
            <a:ext cx="34668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long-run supply curve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constant-cost industry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increasing-cost industry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decreasing-cost industry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productive efficiency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allocative efficiency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consumer surplus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producer surplus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2261" dur="indefinite" restart="never" nodeType="tmRoot">
          <p:childTnLst>
            <p:seq>
              <p:cTn id="2262" dur="indefinite" nodeType="mainSeq">
                <p:childTnLst>
                  <p:par>
                    <p:cTn id="2263" fill="hold">
                      <p:stCondLst>
                        <p:cond delay="0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Next Chapter Preview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4419720" y="4213080"/>
            <a:ext cx="41446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apter 22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5" name=""/>
          <p:cNvSpPr/>
          <p:nvPr/>
        </p:nvSpPr>
        <p:spPr>
          <a:xfrm>
            <a:off x="1875600" y="2755800"/>
            <a:ext cx="41385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3"/>
          <a:srcRect l="0" t="0" r="1816" b="0"/>
          <a:stretch/>
        </p:blipFill>
        <p:spPr>
          <a:xfrm>
            <a:off x="5958000" y="874800"/>
            <a:ext cx="232236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our Market Mode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32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Pure Competition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Pure Monopoly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Monopolistic Competition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Oligopoly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9960" y="4605480"/>
            <a:ext cx="7047000" cy="1104840"/>
          </a:xfrm>
          <a:prstGeom prst="rightArrow">
            <a:avLst>
              <a:gd name="adj1" fmla="val 66093"/>
              <a:gd name="adj2" fmla="val 63665"/>
            </a:avLst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40040" y="5910120"/>
            <a:ext cx="6780240" cy="4572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Structure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7800" y="4908600"/>
            <a:ext cx="1515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9640" y="4908600"/>
            <a:ext cx="1593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Monopo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9680" y="5127480"/>
            <a:ext cx="1238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Oligop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39320" y="4908600"/>
            <a:ext cx="1262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Monop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62880" y="421020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Imperfect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ure Competitio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52480" y="956880"/>
            <a:ext cx="7188480" cy="56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Very Large Numbers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tandardized Product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Price Takers”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Free Entry and Exit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Perfectly Elastic Demand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Average Revenu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Total Revenu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Marginal Revenu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aphically…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695600" y="1103400"/>
            <a:ext cx="2508120" cy="4721040"/>
            <a:chOff x="1695600" y="1103400"/>
            <a:chExt cx="2508120" cy="4721040"/>
          </a:xfrm>
        </p:grpSpPr>
        <p:sp>
          <p:nvSpPr>
            <p:cNvPr id="75" name=""/>
            <p:cNvSpPr/>
            <p:nvPr/>
          </p:nvSpPr>
          <p:spPr>
            <a:xfrm>
              <a:off x="1695600" y="1103400"/>
              <a:ext cx="2508120" cy="16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9200" y="1235160"/>
              <a:ext cx="109224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Ave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venu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95920" y="1235160"/>
              <a:ext cx="102492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08360" y="1109520"/>
              <a:ext cx="0" cy="471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ure Competitio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232160" y="944640"/>
            <a:ext cx="4746600" cy="5511600"/>
            <a:chOff x="4232160" y="944640"/>
            <a:chExt cx="4746600" cy="5511600"/>
          </a:xfrm>
        </p:grpSpPr>
        <p:sp>
          <p:nvSpPr>
            <p:cNvPr id="81" name=""/>
            <p:cNvSpPr/>
            <p:nvPr/>
          </p:nvSpPr>
          <p:spPr>
            <a:xfrm rot="16200000">
              <a:off x="3304080" y="3347640"/>
              <a:ext cx="22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ce and Reve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454720" y="5857920"/>
              <a:ext cx="3524040" cy="337320"/>
              <a:chOff x="5454720" y="5857920"/>
              <a:chExt cx="3524040" cy="337320"/>
            </a:xfrm>
          </p:grpSpPr>
          <p:sp>
            <p:nvSpPr>
              <p:cNvPr id="83" name=""/>
              <p:cNvSpPr/>
              <p:nvPr/>
            </p:nvSpPr>
            <p:spPr>
              <a:xfrm>
                <a:off x="5454720" y="585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85080" y="585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26240" y="585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367760" y="585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953120" y="58579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572320" y="58579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263840" y="944640"/>
              <a:ext cx="744480" cy="4585320"/>
              <a:chOff x="4263840" y="944640"/>
              <a:chExt cx="744480" cy="4585320"/>
            </a:xfrm>
          </p:grpSpPr>
          <p:sp>
            <p:nvSpPr>
              <p:cNvPr id="90" name=""/>
              <p:cNvSpPr/>
              <p:nvPr/>
            </p:nvSpPr>
            <p:spPr>
              <a:xfrm>
                <a:off x="4489200" y="51926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3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89200" y="46674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6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89200" y="41529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9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489200" y="36273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2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89200" y="30909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5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89200" y="25542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8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89200" y="20178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91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76520" y="148104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4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63840" y="94464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$11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4962600" y="1136520"/>
              <a:ext cx="3835440" cy="4761000"/>
              <a:chOff x="4962600" y="1136520"/>
              <a:chExt cx="3835440" cy="4761000"/>
            </a:xfrm>
          </p:grpSpPr>
          <p:sp>
            <p:nvSpPr>
              <p:cNvPr id="100" name=""/>
              <p:cNvSpPr/>
              <p:nvPr/>
            </p:nvSpPr>
            <p:spPr>
              <a:xfrm>
                <a:off x="4962600" y="1149480"/>
                <a:ext cx="3835440" cy="47386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4973760" y="1168560"/>
                <a:ext cx="3823920" cy="4727160"/>
                <a:chOff x="4973760" y="1168560"/>
                <a:chExt cx="3823920" cy="4727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973760" y="11685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10240" y="11685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249240" y="11685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885360" y="11685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524720" y="11685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161200" y="11685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797680" y="11685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981680" y="1157400"/>
                <a:ext cx="3805200" cy="4733640"/>
                <a:chOff x="4981680" y="1157400"/>
                <a:chExt cx="3805200" cy="4733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981680" y="5891040"/>
                  <a:ext cx="38052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981680" y="5361120"/>
                  <a:ext cx="38052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981680" y="4842000"/>
                  <a:ext cx="38052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981680" y="4319640"/>
                  <a:ext cx="38052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981680" y="3800520"/>
                  <a:ext cx="38052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981680" y="3257640"/>
                  <a:ext cx="38052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981680" y="2725560"/>
                  <a:ext cx="38052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981680" y="2206800"/>
                  <a:ext cx="38052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981680" y="1685880"/>
                  <a:ext cx="38052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981680" y="1157400"/>
                  <a:ext cx="38052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4965480" y="1136520"/>
                <a:ext cx="0" cy="476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65480" y="5886360"/>
                <a:ext cx="382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399280" y="6087960"/>
              <a:ext cx="30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y Demanded (Sol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973760" y="5342040"/>
            <a:ext cx="370188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73760" y="1320840"/>
            <a:ext cx="2822400" cy="4556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88920" y="48942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MR = 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38920" y="1109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2160" y="2316240"/>
            <a:ext cx="349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97880" y="2316240"/>
            <a:ext cx="4852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990033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25640" y="2316240"/>
            <a:ext cx="520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0920" y="2316240"/>
            <a:ext cx="577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39800" y="2827440"/>
            <a:ext cx="63180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73040" y="2827440"/>
            <a:ext cx="40644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0200" y="2827440"/>
            <a:ext cx="63180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2979720"/>
            <a:ext cx="6318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301920" y="2954160"/>
            <a:ext cx="325440" cy="2801880"/>
            <a:chOff x="3301920" y="2954160"/>
            <a:chExt cx="325440" cy="2801880"/>
          </a:xfrm>
        </p:grpSpPr>
        <p:grpSp>
          <p:nvGrpSpPr>
            <p:cNvPr id="136" name=""/>
            <p:cNvGrpSpPr/>
            <p:nvPr/>
          </p:nvGrpSpPr>
          <p:grpSpPr>
            <a:xfrm>
              <a:off x="3301920" y="2954160"/>
              <a:ext cx="325440" cy="368280"/>
              <a:chOff x="3301920" y="2954160"/>
              <a:chExt cx="325440" cy="368280"/>
            </a:xfrm>
          </p:grpSpPr>
          <p:sp>
            <p:nvSpPr>
              <p:cNvPr id="137" name=""/>
              <p:cNvSpPr/>
              <p:nvPr/>
            </p:nvSpPr>
            <p:spPr>
              <a:xfrm>
                <a:off x="3301920" y="29541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49520" y="315900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3301920" y="3225600"/>
              <a:ext cx="325440" cy="368280"/>
              <a:chOff x="3301920" y="3225600"/>
              <a:chExt cx="325440" cy="368280"/>
            </a:xfrm>
          </p:grpSpPr>
          <p:sp>
            <p:nvSpPr>
              <p:cNvPr id="140" name=""/>
              <p:cNvSpPr/>
              <p:nvPr/>
            </p:nvSpPr>
            <p:spPr>
              <a:xfrm>
                <a:off x="3301920" y="32256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49520" y="343044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301920" y="3482640"/>
              <a:ext cx="325440" cy="368280"/>
              <a:chOff x="3301920" y="3482640"/>
              <a:chExt cx="325440" cy="368280"/>
            </a:xfrm>
          </p:grpSpPr>
          <p:sp>
            <p:nvSpPr>
              <p:cNvPr id="143" name=""/>
              <p:cNvSpPr/>
              <p:nvPr/>
            </p:nvSpPr>
            <p:spPr>
              <a:xfrm>
                <a:off x="3301920" y="3482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49520" y="368748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301920" y="3744720"/>
              <a:ext cx="325440" cy="368280"/>
              <a:chOff x="3301920" y="3744720"/>
              <a:chExt cx="325440" cy="368280"/>
            </a:xfrm>
          </p:grpSpPr>
          <p:sp>
            <p:nvSpPr>
              <p:cNvPr id="146" name=""/>
              <p:cNvSpPr/>
              <p:nvPr/>
            </p:nvSpPr>
            <p:spPr>
              <a:xfrm>
                <a:off x="3301920" y="3744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49520" y="394956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301920" y="4006440"/>
              <a:ext cx="325440" cy="368280"/>
              <a:chOff x="3301920" y="4006440"/>
              <a:chExt cx="325440" cy="368280"/>
            </a:xfrm>
          </p:grpSpPr>
          <p:sp>
            <p:nvSpPr>
              <p:cNvPr id="149" name=""/>
              <p:cNvSpPr/>
              <p:nvPr/>
            </p:nvSpPr>
            <p:spPr>
              <a:xfrm>
                <a:off x="3301920" y="40064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49520" y="421128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301920" y="4282920"/>
              <a:ext cx="325440" cy="368280"/>
              <a:chOff x="3301920" y="4282920"/>
              <a:chExt cx="325440" cy="368280"/>
            </a:xfrm>
          </p:grpSpPr>
          <p:sp>
            <p:nvSpPr>
              <p:cNvPr id="152" name=""/>
              <p:cNvSpPr/>
              <p:nvPr/>
            </p:nvSpPr>
            <p:spPr>
              <a:xfrm>
                <a:off x="3301920" y="42829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449520" y="448776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301920" y="4559040"/>
              <a:ext cx="325440" cy="368280"/>
              <a:chOff x="3301920" y="4559040"/>
              <a:chExt cx="325440" cy="368280"/>
            </a:xfrm>
          </p:grpSpPr>
          <p:sp>
            <p:nvSpPr>
              <p:cNvPr id="155" name=""/>
              <p:cNvSpPr/>
              <p:nvPr/>
            </p:nvSpPr>
            <p:spPr>
              <a:xfrm>
                <a:off x="3301920" y="45590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449520" y="476388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301920" y="4835160"/>
              <a:ext cx="325440" cy="368280"/>
              <a:chOff x="3301920" y="4835160"/>
              <a:chExt cx="325440" cy="368280"/>
            </a:xfrm>
          </p:grpSpPr>
          <p:sp>
            <p:nvSpPr>
              <p:cNvPr id="158" name=""/>
              <p:cNvSpPr/>
              <p:nvPr/>
            </p:nvSpPr>
            <p:spPr>
              <a:xfrm>
                <a:off x="3301920" y="48351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49520" y="504000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301920" y="5111640"/>
              <a:ext cx="325440" cy="368280"/>
              <a:chOff x="3301920" y="5111640"/>
              <a:chExt cx="325440" cy="368280"/>
            </a:xfrm>
          </p:grpSpPr>
          <p:sp>
            <p:nvSpPr>
              <p:cNvPr id="161" name=""/>
              <p:cNvSpPr/>
              <p:nvPr/>
            </p:nvSpPr>
            <p:spPr>
              <a:xfrm>
                <a:off x="3301920" y="5111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49520" y="531648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301920" y="5387760"/>
              <a:ext cx="325440" cy="368280"/>
              <a:chOff x="3301920" y="5387760"/>
              <a:chExt cx="325440" cy="368280"/>
            </a:xfrm>
          </p:grpSpPr>
          <p:sp>
            <p:nvSpPr>
              <p:cNvPr id="164" name=""/>
              <p:cNvSpPr/>
              <p:nvPr/>
            </p:nvSpPr>
            <p:spPr>
              <a:xfrm>
                <a:off x="3301920" y="53877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49520" y="559260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7040" y="87120"/>
            <a:ext cx="73915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t Maximization in the Short Ru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52120" y="901800"/>
            <a:ext cx="7086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Total Revenue-Total Cost Approach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nsider: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Should Product Be Produced?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If So, In What Amount?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What Economic Profit (Loss) Will Be Realized?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52120" y="901800"/>
            <a:ext cx="70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Total Revenue-Total Cost Approach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79720" y="5551560"/>
            <a:ext cx="66834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1817640"/>
            <a:ext cx="7097760" cy="11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697040" y="87120"/>
            <a:ext cx="73915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t Maximization in the Short Ru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83000" y="2290680"/>
            <a:ext cx="13284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Output)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16080" y="2290680"/>
            <a:ext cx="11210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F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33160" y="2290680"/>
            <a:ext cx="13510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V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68040" y="2290680"/>
            <a:ext cx="10508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59840" y="2290680"/>
            <a:ext cx="1396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94720" y="2290680"/>
            <a:ext cx="1052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t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Loss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61760" y="189072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Price = $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9960" y="2243160"/>
            <a:ext cx="226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73960" y="3030480"/>
            <a:ext cx="4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6160" y="302724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6760" y="3035160"/>
            <a:ext cx="56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33640" y="304308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19480" y="305100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06680" y="3059280"/>
            <a:ext cx="76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-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43120" y="60847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w Let’s Graph The Resul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1840" y="6075360"/>
            <a:ext cx="5727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Do You See Profit Maxim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4324320" y="1612800"/>
            <a:ext cx="2266920" cy="4680000"/>
            <a:chOff x="4324320" y="1612800"/>
            <a:chExt cx="2266920" cy="4680000"/>
          </a:xfrm>
        </p:grpSpPr>
        <p:sp>
          <p:nvSpPr>
            <p:cNvPr id="189" name=""/>
            <p:cNvSpPr/>
            <p:nvPr/>
          </p:nvSpPr>
          <p:spPr>
            <a:xfrm>
              <a:off x="4394160" y="1612800"/>
              <a:ext cx="2108160" cy="2718000"/>
            </a:xfrm>
            <a:custGeom>
              <a:avLst/>
              <a:gdLst/>
              <a:ahLst/>
              <a:rect l="l" t="t" r="r" b="b"/>
              <a:pathLst>
                <a:path w="1328" h="1712">
                  <a:moveTo>
                    <a:pt x="0" y="1712"/>
                  </a:moveTo>
                  <a:lnTo>
                    <a:pt x="1328" y="0"/>
                  </a:lnTo>
                  <a:lnTo>
                    <a:pt x="1296" y="116"/>
                  </a:lnTo>
                  <a:lnTo>
                    <a:pt x="1140" y="428"/>
                  </a:lnTo>
                  <a:lnTo>
                    <a:pt x="1000" y="716"/>
                  </a:lnTo>
                  <a:lnTo>
                    <a:pt x="924" y="856"/>
                  </a:lnTo>
                  <a:lnTo>
                    <a:pt x="792" y="1024"/>
                  </a:lnTo>
                  <a:lnTo>
                    <a:pt x="588" y="1276"/>
                  </a:lnTo>
                  <a:lnTo>
                    <a:pt x="416" y="1420"/>
                  </a:lnTo>
                  <a:lnTo>
                    <a:pt x="316" y="1512"/>
                  </a:lnTo>
                  <a:lnTo>
                    <a:pt x="176" y="1604"/>
                  </a:lnTo>
                  <a:lnTo>
                    <a:pt x="0" y="1712"/>
                  </a:lnTo>
                  <a:close/>
                </a:path>
              </a:pathLst>
            </a:custGeom>
            <a:solidFill>
              <a:srgbClr val="cc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24320" y="5734080"/>
              <a:ext cx="2266920" cy="558720"/>
            </a:xfrm>
            <a:custGeom>
              <a:avLst/>
              <a:gdLst/>
              <a:ahLst/>
              <a:rect l="l" t="t" r="r" b="b"/>
              <a:pathLst>
                <a:path w="1428" h="352">
                  <a:moveTo>
                    <a:pt x="0" y="352"/>
                  </a:moveTo>
                  <a:lnTo>
                    <a:pt x="136" y="236"/>
                  </a:lnTo>
                  <a:lnTo>
                    <a:pt x="252" y="160"/>
                  </a:lnTo>
                  <a:lnTo>
                    <a:pt x="484" y="64"/>
                  </a:lnTo>
                  <a:lnTo>
                    <a:pt x="732" y="12"/>
                  </a:lnTo>
                  <a:lnTo>
                    <a:pt x="864" y="0"/>
                  </a:lnTo>
                  <a:lnTo>
                    <a:pt x="980" y="16"/>
                  </a:lnTo>
                  <a:lnTo>
                    <a:pt x="1112" y="60"/>
                  </a:lnTo>
                  <a:lnTo>
                    <a:pt x="1240" y="132"/>
                  </a:lnTo>
                  <a:lnTo>
                    <a:pt x="1352" y="236"/>
                  </a:lnTo>
                  <a:lnTo>
                    <a:pt x="1428" y="352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cc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52120" y="901800"/>
            <a:ext cx="70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Total Revenue-Total Cost Approach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697040" y="87120"/>
            <a:ext cx="73915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t Maximization in the Short Ru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35160" y="1308240"/>
            <a:ext cx="4002120" cy="5345280"/>
            <a:chOff x="3035160" y="1308240"/>
            <a:chExt cx="4002120" cy="5345280"/>
          </a:xfrm>
        </p:grpSpPr>
        <p:grpSp>
          <p:nvGrpSpPr>
            <p:cNvPr id="194" name=""/>
            <p:cNvGrpSpPr/>
            <p:nvPr/>
          </p:nvGrpSpPr>
          <p:grpSpPr>
            <a:xfrm>
              <a:off x="3929040" y="1425600"/>
              <a:ext cx="3108240" cy="3500280"/>
              <a:chOff x="3929040" y="1425600"/>
              <a:chExt cx="3108240" cy="350028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3929040" y="1429560"/>
                <a:ext cx="3108240" cy="3494160"/>
                <a:chOff x="3929040" y="1429560"/>
                <a:chExt cx="3108240" cy="349416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392904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412344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431748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451152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470592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490032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509436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528876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548316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567720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587160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606600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626004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645444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664848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684288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703728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930480" y="1425600"/>
                <a:ext cx="3098880" cy="3500280"/>
                <a:chOff x="3930480" y="1425600"/>
                <a:chExt cx="3098880" cy="3500280"/>
              </a:xfrm>
            </p:grpSpPr>
            <p:sp>
              <p:nvSpPr>
                <p:cNvPr id="214" name=""/>
                <p:cNvSpPr/>
                <p:nvPr/>
              </p:nvSpPr>
              <p:spPr>
                <a:xfrm flipH="1">
                  <a:off x="3930480" y="45338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3930480" y="434016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3930480" y="41446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930480" y="39506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930480" y="37566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3930480" y="356292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3930480" y="33678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>
                  <a:off x="3930480" y="317376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3930480" y="297972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3930480" y="27856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>
                  <a:off x="3930480" y="259056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3930480" y="239652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3930480" y="22024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3930480" y="20088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3930480" y="18136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3930480" y="16196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3930480" y="14256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>
                  <a:off x="3930480" y="49258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>
                  <a:off x="3930480" y="47318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3929040" y="5326200"/>
              <a:ext cx="3108240" cy="974520"/>
              <a:chOff x="3929040" y="5326200"/>
              <a:chExt cx="3108240" cy="974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3929040" y="5327280"/>
                <a:ext cx="3108240" cy="971640"/>
                <a:chOff x="3929040" y="5327280"/>
                <a:chExt cx="3108240" cy="971640"/>
              </a:xfrm>
            </p:grpSpPr>
            <p:sp>
              <p:nvSpPr>
                <p:cNvPr id="235" name=""/>
                <p:cNvSpPr/>
                <p:nvPr/>
              </p:nvSpPr>
              <p:spPr>
                <a:xfrm flipV="1">
                  <a:off x="392904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412272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431784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451152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470700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490068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509436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528948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548316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567684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587196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V="1">
                  <a:off x="606564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626112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45480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664848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684360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703728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930480" y="5326200"/>
                <a:ext cx="3098880" cy="974520"/>
                <a:chOff x="3930480" y="5326200"/>
                <a:chExt cx="3098880" cy="974520"/>
              </a:xfrm>
            </p:grpSpPr>
            <p:sp>
              <p:nvSpPr>
                <p:cNvPr id="253" name=""/>
                <p:cNvSpPr/>
                <p:nvPr/>
              </p:nvSpPr>
              <p:spPr>
                <a:xfrm flipH="1">
                  <a:off x="3930480" y="59086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3930480" y="57150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3930480" y="55198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>
                  <a:off x="3930480" y="53262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3930480" y="630072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3930480" y="61070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"/>
            <p:cNvGrpSpPr/>
            <p:nvPr/>
          </p:nvGrpSpPr>
          <p:grpSpPr>
            <a:xfrm>
              <a:off x="3787200" y="4871880"/>
              <a:ext cx="3028680" cy="276480"/>
              <a:chOff x="3787200" y="4871880"/>
              <a:chExt cx="3028680" cy="276480"/>
            </a:xfrm>
          </p:grpSpPr>
          <p:sp>
            <p:nvSpPr>
              <p:cNvPr id="260" name=""/>
              <p:cNvSpPr/>
              <p:nvPr/>
            </p:nvSpPr>
            <p:spPr>
              <a:xfrm>
                <a:off x="398412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8720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8104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7796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6372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76028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4604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14296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3988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53680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68836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8528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8220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6796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46452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783960" y="6235560"/>
              <a:ext cx="3028680" cy="276480"/>
              <a:chOff x="3783960" y="6235560"/>
              <a:chExt cx="3028680" cy="276480"/>
            </a:xfrm>
          </p:grpSpPr>
          <p:sp>
            <p:nvSpPr>
              <p:cNvPr id="276" name=""/>
              <p:cNvSpPr/>
              <p:nvPr/>
            </p:nvSpPr>
            <p:spPr>
              <a:xfrm>
                <a:off x="398088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78396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17780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7472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6048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75704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94280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3972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33664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53356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68512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8204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07896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6472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6128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350160" y="1308240"/>
              <a:ext cx="607320" cy="35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1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30080" y="5186520"/>
              <a:ext cx="52200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6200000">
              <a:off x="1996560" y="301392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Revenue and Total Co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6200000">
              <a:off x="2509920" y="5451120"/>
              <a:ext cx="15066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Econo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16840" y="5035680"/>
              <a:ext cx="209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ntity Demanded (Sol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13600" y="6377040"/>
              <a:ext cx="209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ntity Demanded (Sol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V="1">
            <a:off x="3933720" y="1464840"/>
            <a:ext cx="2694240" cy="3449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30480" y="1446120"/>
            <a:ext cx="2627640" cy="3289320"/>
          </a:xfrm>
          <a:custGeom>
            <a:avLst/>
            <a:gdLst/>
            <a:ahLst/>
            <a:rect l="l" t="t" r="r" b="b"/>
            <a:pathLst>
              <a:path w="1655" h="2072">
                <a:moveTo>
                  <a:pt x="0" y="2072"/>
                </a:moveTo>
                <a:cubicBezTo>
                  <a:pt x="42" y="2027"/>
                  <a:pt x="84" y="1982"/>
                  <a:pt x="125" y="1943"/>
                </a:cubicBezTo>
                <a:cubicBezTo>
                  <a:pt x="166" y="1904"/>
                  <a:pt x="204" y="1869"/>
                  <a:pt x="245" y="1840"/>
                </a:cubicBezTo>
                <a:cubicBezTo>
                  <a:pt x="286" y="1811"/>
                  <a:pt x="330" y="1795"/>
                  <a:pt x="370" y="1771"/>
                </a:cubicBezTo>
                <a:cubicBezTo>
                  <a:pt x="410" y="1747"/>
                  <a:pt x="445" y="1724"/>
                  <a:pt x="486" y="1698"/>
                </a:cubicBezTo>
                <a:cubicBezTo>
                  <a:pt x="527" y="1672"/>
                  <a:pt x="574" y="1644"/>
                  <a:pt x="615" y="1612"/>
                </a:cubicBezTo>
                <a:cubicBezTo>
                  <a:pt x="656" y="1580"/>
                  <a:pt x="694" y="1541"/>
                  <a:pt x="735" y="1505"/>
                </a:cubicBezTo>
                <a:cubicBezTo>
                  <a:pt x="776" y="1469"/>
                  <a:pt x="820" y="1437"/>
                  <a:pt x="860" y="1397"/>
                </a:cubicBezTo>
                <a:cubicBezTo>
                  <a:pt x="900" y="1357"/>
                  <a:pt x="936" y="1312"/>
                  <a:pt x="976" y="1264"/>
                </a:cubicBezTo>
                <a:cubicBezTo>
                  <a:pt x="1016" y="1216"/>
                  <a:pt x="1058" y="1163"/>
                  <a:pt x="1100" y="1109"/>
                </a:cubicBezTo>
                <a:cubicBezTo>
                  <a:pt x="1142" y="1055"/>
                  <a:pt x="1185" y="1007"/>
                  <a:pt x="1225" y="942"/>
                </a:cubicBezTo>
                <a:cubicBezTo>
                  <a:pt x="1265" y="877"/>
                  <a:pt x="1301" y="797"/>
                  <a:pt x="1341" y="718"/>
                </a:cubicBezTo>
                <a:cubicBezTo>
                  <a:pt x="1381" y="639"/>
                  <a:pt x="1425" y="552"/>
                  <a:pt x="1466" y="469"/>
                </a:cubicBezTo>
                <a:cubicBezTo>
                  <a:pt x="1507" y="386"/>
                  <a:pt x="1559" y="298"/>
                  <a:pt x="1590" y="220"/>
                </a:cubicBezTo>
                <a:cubicBezTo>
                  <a:pt x="1621" y="142"/>
                  <a:pt x="1638" y="71"/>
                  <a:pt x="1655" y="0"/>
                </a:cubicBezTo>
              </a:path>
            </a:pathLst>
          </a:cu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30800" y="5740560"/>
            <a:ext cx="2260440" cy="558720"/>
          </a:xfrm>
          <a:custGeom>
            <a:avLst/>
            <a:gdLst/>
            <a:ahLst/>
            <a:rect l="l" t="t" r="r" b="b"/>
            <a:pathLst>
              <a:path w="1424" h="365">
                <a:moveTo>
                  <a:pt x="0" y="361"/>
                </a:moveTo>
                <a:cubicBezTo>
                  <a:pt x="105" y="269"/>
                  <a:pt x="211" y="177"/>
                  <a:pt x="352" y="117"/>
                </a:cubicBezTo>
                <a:cubicBezTo>
                  <a:pt x="493" y="57"/>
                  <a:pt x="703" y="0"/>
                  <a:pt x="848" y="1"/>
                </a:cubicBezTo>
                <a:cubicBezTo>
                  <a:pt x="993" y="2"/>
                  <a:pt x="1124" y="60"/>
                  <a:pt x="1220" y="121"/>
                </a:cubicBezTo>
                <a:cubicBezTo>
                  <a:pt x="1316" y="182"/>
                  <a:pt x="1370" y="273"/>
                  <a:pt x="1424" y="36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3440" y="209088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Revenue, (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7040" y="1484280"/>
            <a:ext cx="18586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ak-Eve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ormal Prof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33880" y="4214880"/>
            <a:ext cx="18586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ak-Eve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ormal Prof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79440" y="2581200"/>
            <a:ext cx="11484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811840" y="1622160"/>
            <a:ext cx="62064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54800" y="1566720"/>
            <a:ext cx="109440" cy="109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07040" y="4297320"/>
            <a:ext cx="10944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452840" y="4376520"/>
            <a:ext cx="641520" cy="9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83320" y="2678040"/>
            <a:ext cx="0" cy="5000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3880" y="2689200"/>
            <a:ext cx="96840" cy="511200"/>
          </a:xfrm>
          <a:custGeom>
            <a:avLst/>
            <a:gdLst>
              <a:gd name="textAreaLeft" fmla="*/ 61920 w 96840"/>
              <a:gd name="textAreaRight" fmla="*/ 97200 w 9684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668920" y="5754600"/>
            <a:ext cx="0" cy="5320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37960" y="5299200"/>
            <a:ext cx="168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45120" y="5834160"/>
            <a:ext cx="44604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29280" y="5315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703840" y="5497560"/>
            <a:ext cx="370080" cy="217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79160" y="3670200"/>
            <a:ext cx="973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$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06880" y="2384280"/>
            <a:ext cx="719280" cy="16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49640" y="285444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6171840" y="2471760"/>
            <a:ext cx="358920" cy="40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941720" y="2950920"/>
            <a:ext cx="64296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8039160" y="1542960"/>
            <a:ext cx="746280" cy="710280"/>
            <a:chOff x="8039160" y="1542960"/>
            <a:chExt cx="746280" cy="710280"/>
          </a:xfrm>
        </p:grpSpPr>
        <p:pic>
          <p:nvPicPr>
            <p:cNvPr id="321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128080" y="154296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>
              <a:hlinkClick r:id="rId3"/>
            </p:cNvPr>
            <p:cNvSpPr/>
            <p:nvPr/>
          </p:nvSpPr>
          <p:spPr>
            <a:xfrm>
              <a:off x="8039160" y="194616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 2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8033760" y="2690640"/>
            <a:ext cx="717120" cy="729360"/>
            <a:chOff x="8033760" y="2690640"/>
            <a:chExt cx="717120" cy="729360"/>
          </a:xfrm>
        </p:grpSpPr>
        <p:sp>
          <p:nvSpPr>
            <p:cNvPr id="324" name="">
              <a:hlinkClick r:id="rId4"/>
            </p:cNvPr>
            <p:cNvSpPr/>
            <p:nvPr/>
          </p:nvSpPr>
          <p:spPr>
            <a:xfrm>
              <a:off x="8033760" y="311292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 2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8150400" y="2690640"/>
              <a:ext cx="436320" cy="473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785600" y="979560"/>
            <a:ext cx="708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Marginal Revenue-Marginal Cost Approach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MR = MC Rule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1697040" y="87120"/>
            <a:ext cx="73915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t Maximization in the Short Ru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73080" y="1716120"/>
            <a:ext cx="6669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mportant Featur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Firm Will Shut Down Unless MR at Least Meets 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rofit Maximization in All Market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an Be Restated P = 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3:07:32Z</dcterms:created>
  <dc:creator>C. Norman Hollingsworth</dc:creator>
  <dc:description/>
  <dc:language>en-US</dc:language>
  <cp:lastModifiedBy>MHE</cp:lastModifiedBy>
  <dcterms:modified xsi:type="dcterms:W3CDTF">2006-10-11T19:04:20Z</dcterms:modified>
  <cp:revision>282</cp:revision>
  <dc:subject>McConnell-Brue Economics</dc:subject>
  <dc:title>Chapter 21</dc:title>
</cp:coreProperties>
</file>